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679-E348-4FCB-A2A9-6DFB581D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E63-7560-4CEF-8FE9-773D20EE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E48-FEBA-4DB5-ADA9-6F0A630D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B24-6474-433B-9237-921C777C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75E6-A1B2-4ED0-B2E3-C5298FC9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6826-21FE-45D4-B350-4DEECDF3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7985-A48E-48E2-9AD5-668CABFB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FB97-35D0-4558-8D8A-EE1E070A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30B0-ADCB-4E94-9022-C930DAC9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74BD-02B7-497B-BC79-C23DACBD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44B9-6D76-44E5-BC1E-998D31E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9C5-3C60-41E7-8829-665E5071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6CB0-0391-4360-A180-6503F13D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BD43-06E2-479E-B20C-24350108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8327-37DF-4319-A1FA-AD348E4C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51CF-051F-418C-8CAF-DD67B29F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65DE-9D55-403D-A5B8-992ACE82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E4F-552E-4E6F-AD94-66C3232D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6AA-03F7-42C1-B3F2-42ACDB6D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6F7-8074-416F-8A75-2E7AF1C5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CF7-E4B1-42FD-9278-F9C8061D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7A4-DA85-49EA-8166-35A5B0C3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46D-EC09-4A3F-9E76-0671F416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08D-90AF-4D70-BBAE-03093BBC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A13C-2F16-4E33-B949-6B65E4A99E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EDAD-B88B-4B97-8927-5C77CCC5DA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РИМЕРНЫЕ ТРЕБОВАНИЯ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к программам дополнительного образования детей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Письмо Департамента молодежной  политики,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воспитания и социальной защиты детей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от  11  декабря 2006 г. № 06-1844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етодическое обеспечение программы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еспечение программы методическими видами продукции (разработки игр, бесед, походов, экскурсий, конкурсов, конференций и т.д.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комендации по проведению лабораторных и практических работ, по постановке экспериментов или опытов и т.д.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идактический и лекционный материалы, методики по исследовательской работе, тематика опытнической или исследовательской работы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писок использованной литературы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итература, используемая педагогом для разработки программы и организации образовательного процесс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итература, рекомендованная для детей и родителей по данной программ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иды образовательных програм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771280" y="2707920"/>
            <a:ext cx="4381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Традиционны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Инновационны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радиционная програм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адиционная программа может быть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адаптированн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модифицированн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ограмма считается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адаптированн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если она ис­пользуется без изменения в содержании и методике, но с некоторыми поправками в последовательности изложения материалов и количестве часов, отводимых на изучение той или иной тем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ограмма считается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модифицированн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если в ее основе лежит одна или несколько традиционных программ одного предмета и содержательная и методическая части в целом отличаются от традицион­ных на 10-15%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новационная програм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вторизованна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программа может быть признана таковой, если она содержит не менее 50% новизны только в содержан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грамма является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вторской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если она отличается от существующих содержанием, методикой и систе­мой основных принципов преподавания не менее чем на 50%, прошла предварительную апробацию и имеет положительные результаты обуч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аправленности образовательных програм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42920" y="2565000"/>
            <a:ext cx="495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учно-техническ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портивно-техническ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изкультурно-спортивн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удожественн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уристско-краеведческ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колого-биологическ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енно-патриотическ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циально-педагогическая;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циально-экономическа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естественно-научна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фикация програм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уровням осво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образовательным област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формам реал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возраст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вид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срокам реал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форме организации содержания и процесса педагогическ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половому признак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ритерии оценки образовательных программ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краевой конкурс авторских программ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оответствие содержания и оформления требованиям конкурса- 5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ктуальность - 5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овизна - 15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тегрированность с общим образованием - 10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декватность   целей,   задач,   содержания   системе   оценки  и   предъявления результатов - 20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труктура программы, логичность, ясность изложения - 10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озможность    использования    в    практике    дополнительного    образования, социальная значимость - 15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оздание    условий    для    личностного,    социального,    профессионального самоопределения - 10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работанность методического сопровождения - 10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едостатки образовательных программ,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тендующих на статус авторски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е образовательная программа (обобщение опыта, программа УД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труктура программы не соответствует современным требования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Много лишней информ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е четкое обозначение новизн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Тривиальные термин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ет соответствия целей, задач, диагности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азвание должно отражать суть програм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ыписывание концептуальной части в соответствии с требованиями (журнал «Дополнительное образование» № 8, 2007 год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бедительность автор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держание образования должно быть ориентировано н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беспечение самоопределения личности, создание условий для ее самореализац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формирование у обучающегося адекватной современному уровню знаний и уровню образовательной программы (ступени обучения) картины мир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теграцию личности в национальную и мировую культуру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формирование человека и гражданина, интегрированного в современное ему общество и нацеленного на совершенствование этого обществ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оспроизводство и развитие кадрового потенциала общест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Содержание дополнительных образовательных программ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олжно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соответствовать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остижениям мировой культуры, российским традициям, культурно-национальным особенностям регион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оответствующему уровню образования (дошкольному, начальному общему, основному общему, среднему (пол­ному) общему образованию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аправленностям дополнительных образовательных программ (научно-технической, спортивно-технической, художественной, физкультурно-спортивной, туристско-краеведческой, эколого-биологической, военно-патрио­тической, социально-педагогической, социально-эконо­мической, естественно-научно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овременным образовательным технологиям, отраженным в принципах обучения; формах и методах обучения;  методах контроля и управления образовательным процессом; средствах обуч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Содержание дополнительных образовательных программ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олжно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быть направлено н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оздание условий для развития личности ребенк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азвитие мотивации личности ребенка к познанию и творчеству;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беспечение эмоционального благополучия ребенк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иобщение обучающихся к общечеловеческим ценностям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офилактику асоциального повед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оздание условий для социального, культурного и про­фессионального самоопределения, творческой самореализации личности ребенка, его интеграции в системе мировой и отечественной культур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елостность процесса психического и физического, умственного и духовного развития личности ребенк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крепление психического и физического здоровья ребенк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заимодействие педагога дополнительного образования с семь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Структура программы дополнительного образования де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итульный лис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яснительную запис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чебно-тематический пла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держание изучаемого кур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тодическое обеспечение дополнительной образова­тельной программ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писок литерат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итульный ли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именование образовательного учреж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де, когда и кем утверждена дополнительная образовательная программ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звание программ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раст детей, на которых рассчитана программ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рок реализ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ИО, должность автора(ов) программ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звание города, населенного пункта, в котором реализуется программ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од разработки дополнительной образовательной програм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яснительная запис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правленность программ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овизну, актуальность, педагогическую целесообраз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цель и задачи программ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тличительные особенности данной программы от уже существующих образовательных программ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озраст детей, участвующих в реализации программ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роки реализации (продолжительность образовательного процесса, этапы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формы и режим занят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жидаемые результаты и способы определения их результатив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формы подведения итогов реализации дополнительной образовательной программы (выставки, фестивали, соревнования, учебно-исследовательские конференции и т.д.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чебно-тематический пла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еречень разделов, те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личество часов по каждой теме с разбивкой на теоретические и практические виды занят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держание програм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тразить через краткое описание тем (теоретических и практических видов занятий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1:21:34Z</dcterms:created>
  <dc:creator>do</dc:creator>
  <dc:description/>
  <dc:language>en-US</dc:language>
  <cp:lastModifiedBy>do</cp:lastModifiedBy>
  <dcterms:modified xsi:type="dcterms:W3CDTF">2008-10-13T11:43:33Z</dcterms:modified>
  <cp:revision>3</cp:revision>
  <dc:subject/>
  <dc:title>ПРИМЕРНЫЕ ТРЕБОВАНИЯ к программам дополнительного образования детей</dc:title>
</cp:coreProperties>
</file>