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11D-999B-4B5F-973C-F4C5DED0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88F-301F-41F6-BF02-EB1FB8C6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86F14-255A-4CEF-A404-22B6B047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A9962-34D4-4613-966F-DBCFE5C2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E4A32-59B8-48A3-B863-FC5133A8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79398-1441-4A83-BBD9-0158F134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9D85E-3FDC-484E-931C-3D30953D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7F308-37A9-46B8-B1C5-3AB14888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10FC3-66EB-454F-9624-867B3388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E228B-BD2D-4C0A-94AF-7139703B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B24ED-DD69-4DDA-B4C2-5F2C9100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5BA83-BBD9-4E34-93A9-1216B1D3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7558-20BB-496B-A7B5-79EF4DEF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29F9C-7967-417A-8FB4-D234E5E4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66D55-66B2-4DFE-ABC5-8C5007D1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AE13C-F267-464A-95BF-CEB1B670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2016B-66DA-4377-9601-F83DFFCB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A13C1-871E-4998-8BE4-DB70BDCB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33C61-BF9D-4A40-A0B8-4DBF2E74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36F5F-CF60-4057-89A8-99E040D5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0BC32-4B20-4FE1-9C55-0A99DF9D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34242-367A-40AD-AA04-7BE32BF1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9F30B-4E82-4384-A8EB-62ED0462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A53-9357-4034-855D-CC6DB063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485C1-4A46-4852-922F-E562A97D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05BD3-D064-4092-9813-06E9F163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BBCFF-AE71-4048-A3A6-641C7969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163CF-91B2-414E-A730-FB67862A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D9529-DEB6-4971-A389-43BFE41D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B6128-82F6-4F6A-B20D-C6DD8A15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9213B-BBF8-42B8-AF85-A3BDCBFF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84A5D-F68F-4765-B7F0-7A3C9283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77160-20AA-49ED-B0D1-95002318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0ACAD-725D-4492-98C1-A75141BC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E0D4-16A7-47DA-BC14-1055F7FD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EAA1A-DE77-45F7-9F32-C7EA3599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5E241-1D6E-431B-B839-FFE7DC33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1DE92-F5E9-4F29-B69C-78DF2A0F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DBE4-0C81-49C1-B0DE-B31E83BB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F433-1BE0-4383-AA24-93C64DA1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15A7-6251-4C48-87E9-395AD85E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CC03-E2DB-4D92-8BE1-FBFDE90C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2283-9C6C-4F03-B21B-3F4B6990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8721-FB0D-44E9-AC0A-F686FDF5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971E-3B2E-4928-B208-9479CB07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5788-9C40-4AC0-BDC4-F5A9801E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0EB3-8EB0-42DA-BF92-17C6D762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4946-E0A0-41CE-88A3-65C5C3C3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46CF-15E9-40A6-AAC7-91031EAD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13CF-16E9-46D1-B551-4181E734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AD9E4-1569-41D2-9BB5-BF790CD1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FAA2E-9CBB-4B17-B5DB-13D046A6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5DA9C-FB4E-41C8-9258-696E8F52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B9EC8-76B7-4C58-913F-9FAA9C61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9CC79-741F-4DA7-916E-4E3BFF15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578-AD44-4B3F-BE35-CD7DD0A1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82752-D18F-4784-8BDC-11F61120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8223C-690D-467E-B0ED-F1FCBE60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B8017-839C-4CFB-ADBC-18617E13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547C7-4B06-4A5E-9444-57B88A71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E2152-BFDB-4CDC-882E-D6082123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77132-382B-470C-923C-B3ECAF20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9A215-375B-4CC0-AC4F-3C23B7D2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AEB6C-1585-4B3E-A329-34413539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69D43-4FA9-4C23-968E-6508EA38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DABC3-DB89-4F3D-9D75-7A3A7506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60FD-0E58-4DCE-8A37-712E7458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CFFB2-422D-4FDA-B9DA-8A85CDEB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B1995-48DF-42CA-9D66-AC2398A1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A1BA3-FA1B-49DA-BE4C-A926075C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D9B39-D3C2-4764-9B94-5E35E1FF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88659-6989-4B68-8A16-D48448AD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F67FF-82FE-42C5-9BE2-292D7052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7F4E6-629E-4EA3-A0FB-CF19D77B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FC7CC-6C2A-4728-A9C3-4DC576A7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6D6E7-6CD7-45EE-8F62-F88EA677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EC4B4-D1BC-416D-A05E-CCEE8DA5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82B-BE18-4189-92D9-C75FAF66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087B1-85F3-4CD9-8A6C-BC68EBF8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4DCE2-BE4B-4D02-BEC5-F5BD1C8B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23F94-8192-49DB-96F5-EA19ACC3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25130-E323-40D9-95B4-13A39697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589DB-39BE-4C4B-8747-694B7F9D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D35E5-006A-48F4-AF7F-D77B3B14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1BA15-6008-444F-B64B-54545FE0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09FC3-A61B-4BBE-A460-811C5EC0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45A9A-BAF3-4548-B9D6-9359FB7A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381C8-A530-4F83-AB5D-AD354A4D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C22-F703-44C2-AD15-F3AED2BE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62C9E-0784-47E2-9581-0445A953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8634B-9D49-44E5-B9B2-5EC80238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B572E-89F3-42BF-8930-CB4A09A6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6E4B6-272E-4E84-BB8E-A1C99BDC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CEC39-33C5-49C1-8DD9-D3A715D8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1AEE5-2F44-42C6-9C0C-0924AB3E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6DB3D-7CC5-4A7D-92E4-0FAEF1CC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607C2-2215-4765-8767-0C57D105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79B8A-20CC-4360-821B-D00A753A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2FE6B-74E3-468E-B4B0-2B192141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E06-5BFF-4233-850C-A30B3604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CFB78-8830-4DDA-AD9D-CF2C1C58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6019A-9612-4EFC-B9DA-749AD530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B3190-E23D-4DDA-A81A-A7913C2C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478E8-7E89-4184-82F9-E648715A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6A4CC-C113-49CB-8337-A824073B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09CE1-E95E-4B84-84EB-A8BF416A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36735-62B1-44BF-AF29-2B2A3C49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6B112-2058-4AC3-A578-93128022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22FF1-0E88-4791-A903-B3FA7FA1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14C7B-06D9-4B59-A612-9E239677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2C17-C927-4341-99D2-8B55A315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A93BD-A0BC-4FAA-8D3A-70728FE9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331B4-22A1-411C-A9A4-B73DD6A6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65AEA-AF3A-47A6-A5F6-A6768CCB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4CB04-59C5-4083-9174-9193A3C5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D7113-0A82-429B-9F94-74C6F53B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53FF3-4A34-4B12-B1E4-3E49E3A8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02450-7CC2-4348-84BE-2C3B545F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F6CF4-B52E-4918-8ABB-5519A68C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9C9D3-2E2D-47DB-B726-F47AA4E8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B79DB-E943-4A5A-901B-76E91D36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4A3-4518-4C35-99E8-2CB04D01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D506F-1A5F-4241-A780-2308CA3B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3C9A9-09E1-4089-879D-D6C014AE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465BA-BB49-442F-9A1F-BEBA838C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4B442-42BB-4225-802A-34C07B36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FF2E1-FE85-4546-94ED-5F77C05C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D03A3-65D0-4E9D-B1D2-493533C3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A2A5B-44D6-4762-A13B-2D8D4E3E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F71D0-9E22-44AA-BEAF-2BD1C931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7B24F-3B16-4B3D-AADE-956B1FA9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7832C-AE48-486B-828E-D4529279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24F6-0911-4C03-9A26-F2C4833935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01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05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30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12A2-3419-4CCA-B628-8C3E59CB03C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56D0-F69F-416B-9F62-94D17982F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BA0C-537C-4B15-AB18-A9C9357ED7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5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EB38-0151-4C97-A74B-3020B7BD044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52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098B-7D5D-49A4-94FA-7730C676F02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208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10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15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221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25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9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8912-E96C-4FEF-A6CB-C3DA225D955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92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93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307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311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15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19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23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CD8E-9285-4F35-9090-56C7E069458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62D4-5F39-43A7-A675-8359765E97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81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49EC-A06E-41DE-AF01-56FF3517FE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454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2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2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5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D9DB-0FA4-496F-B657-FD4586FFB7A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Толерантный урок как средство формирования гражданских качеств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66"/>
                </a:solidFill>
                <a:latin typeface="Verdana"/>
              </a:rPr>
              <a:t>Проект «Толерантный урок</a:t>
            </a: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»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0" name=""/>
          <p:cNvSpPr/>
          <p:nvPr/>
        </p:nvSpPr>
        <p:spPr>
          <a:xfrm>
            <a:off x="766440" y="1752480"/>
            <a:ext cx="23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альная ситу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638680" y="1676520"/>
            <a:ext cx="25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деальная ситу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41720" y="2246400"/>
            <a:ext cx="34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ниевый подход, отсут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ятельностного подх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3360" y="2246400"/>
            <a:ext cx="93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01680" y="224640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16960" y="3084480"/>
            <a:ext cx="40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наличии различны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к все же носит репродукти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18400" y="4075200"/>
            <a:ext cx="47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иентация на отметку, а не на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34240" y="4568760"/>
            <a:ext cx="523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фликты ученик-учени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к-учитель. Причины конфлик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ш-не наш; несогласие с поставл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меткой; неспособность ребенка объекти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ценить свой результат относительно сам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бя; нежелание учителя вникнуть в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бенка, связанные с усвоением предм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776920" y="3008160"/>
            <a:ext cx="29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ственность за с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852160" y="392256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ициа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7800" y="2438280"/>
            <a:ext cx="83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ние толерантной личности ученика и учителя чере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хнологии толерантного уро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304920" y="228600"/>
            <a:ext cx="8001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Образ толерантной личности сочетает психолого – этические качества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ммуникабель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важение чужого мн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ценност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ульту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ефлексивность (знание личностных особенностей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ибк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веренность в себе (адекватная оценк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мооблада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ариативность (многомерный подход к оценке мир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Определение толерант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53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трудничество, дух партнерст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Готовность мириться с чужим мнени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важение прав други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нятие другого таким, какой он е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пособность поставить себя на место другог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важение права быть ины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знание многообраз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ерпимость к чужим мнениям, верованиям и поведен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тказ от доминирования, причинения вреда и насил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"/>
          <p:cNvGrpSpPr/>
          <p:nvPr/>
        </p:nvGrpSpPr>
        <p:grpSpPr>
          <a:xfrm>
            <a:off x="1619280" y="189000"/>
            <a:ext cx="6135120" cy="6453000"/>
            <a:chOff x="1619280" y="189000"/>
            <a:chExt cx="6135120" cy="6453000"/>
          </a:xfrm>
        </p:grpSpPr>
        <p:sp>
          <p:nvSpPr>
            <p:cNvPr id="736" name=""/>
            <p:cNvSpPr/>
            <p:nvPr/>
          </p:nvSpPr>
          <p:spPr>
            <a:xfrm>
              <a:off x="2658960" y="1371960"/>
              <a:ext cx="4055400" cy="419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114800" y="2877840"/>
              <a:ext cx="935640" cy="9676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426920" y="169452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362920" y="212472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674680" y="320040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42720" y="438336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699000" y="427572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67040" y="320040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386880" y="190980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674680" y="83412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169452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922800" y="330804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402960" y="481356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26920" y="578160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450880" y="524376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619280" y="341532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827000" y="126432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178800" y="29664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530960" y="18900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554920" y="1909800"/>
              <a:ext cx="83160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2450880" y="3630240"/>
              <a:ext cx="41580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3178800" y="4920840"/>
              <a:ext cx="51984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4946760" y="5243400"/>
              <a:ext cx="207720" cy="53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6506640" y="3630240"/>
              <a:ext cx="41580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6194880" y="2124720"/>
              <a:ext cx="41580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674680" y="4921200"/>
              <a:ext cx="72792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5258880" y="1479600"/>
              <a:ext cx="41580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594960" y="1157040"/>
              <a:ext cx="104040" cy="75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4842360" y="1049400"/>
              <a:ext cx="104040" cy="64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2035080" y="2124720"/>
              <a:ext cx="103680" cy="12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38760" y="4275720"/>
              <a:ext cx="415800" cy="9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flipV="1">
              <a:off x="3386880" y="5781600"/>
              <a:ext cx="93600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5362920" y="5459040"/>
              <a:ext cx="1039680" cy="64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7026480" y="4275720"/>
              <a:ext cx="207720" cy="53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 flipV="1">
              <a:off x="7234920" y="2554560"/>
              <a:ext cx="103680" cy="75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506640" y="1479600"/>
              <a:ext cx="20772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466600" y="726840"/>
              <a:ext cx="20772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4010760" y="511560"/>
              <a:ext cx="51984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554560" y="834120"/>
              <a:ext cx="623880" cy="53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0" y="54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762120" y="0"/>
          <a:ext cx="7086600" cy="6770520"/>
        </p:xfrm>
        <a:graphic>
          <a:graphicData uri="http://schemas.openxmlformats.org/drawingml/2006/table">
            <a:tbl>
              <a:tblPr/>
              <a:tblGrid>
                <a:gridCol w="3541680"/>
                <a:gridCol w="3544920"/>
              </a:tblGrid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одерж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на уроке нескольких точек зрения (проблемного вопроса)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формулируют (аргументируют) свою Т.З. Умеют вступить в дискусс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разноуровневых зада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ённость своим результатом, желание попробовать более высо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творческих заданий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жение собственной индивидуа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Технологии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стная деятельность на урок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 согласования цели и задач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ритического мыш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я слышать и задавать вопросы, высказывать отношение к услышанному или прочитанн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о-ориентированное обу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-субъект деятельност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Культура организации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вое пространство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и соблюдение прав и обязанностей учителя и ученика на уроке. Отсутствие взаимных жалоб; конфлик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7" name=""/>
          <p:cNvSpPr/>
          <p:nvPr/>
        </p:nvSpPr>
        <p:spPr>
          <a:xfrm>
            <a:off x="1399320" y="0"/>
            <a:ext cx="51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ритерии                                      Показа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oman</cp:lastModifiedBy>
  <dcterms:modified xsi:type="dcterms:W3CDTF">2007-04-13T16:09:4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