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C82C-F3B5-434B-98DC-D42FB82BF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D9DD-376A-4FA4-AF03-0381BA16F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E6BE-7176-455D-923B-F4BDB4DF0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1F1D-032C-45BF-8CCA-415E51BDD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23D45-7C87-400B-AD2B-C8B9DC1B2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5244F-2735-4A33-B03B-D46D24715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D1251-C67A-4ADC-92D1-8F215A691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ACC01-FBB3-4DFA-BFE4-0DEABA2A5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710C5-2942-4831-9D58-A6F65909E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59E53-4DE4-428D-8740-8E20B9216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9D2D0-CF78-4D8E-AAD9-DB0EF9C6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DBEC-D155-4DD0-9802-EB5566A8B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52F12-8F00-4C67-877D-A6CA22E7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9B429-9948-4BE1-B857-09026230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A3020-F337-4ADB-A045-9502022DB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9DBF6-6BA3-4739-B149-1FF9651D2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503F9-48A6-4591-91E8-2C14808D9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4FBD-F77E-4FE0-97E7-C11491DFB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F240-BFEB-4B1F-AC88-6FCC09543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0824-7856-470C-817E-360AAB480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50FD-C31B-4C3B-B9C1-3DD9D5969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3ADF-0C72-4614-A34D-A9B9743B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2FF6-214D-42E7-931D-A2B0EC61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E905-B521-42D8-BE94-C2704D23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F071E-4C50-42DA-B370-63874C834F0A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5CAA5-6DA7-4FCB-9308-2B17D21F1DF6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84978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Цель деятельности классного руководителя: создание условий для саморазвития и самореализации личности обучающегося, его успешной социализации в обществе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сновные направления деятельности классного руководителя по воздействию на индивидуальность ученика: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2492280"/>
            <a:ext cx="806148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становление личных контакто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зучение учащихс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ализация индивидуального подход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редства индивидуального воздейств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ыстраивание программы личностного роста ребенк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ntr" presetID="3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4500"/>
                            </p:stCondLst>
                            <p:childTnLst>
                              <p:par>
                                <p:cTn id="282" nodeType="afterEffect" fill="hold" presetClass="entr" presetID="3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7000"/>
                            </p:stCondLst>
                            <p:childTnLst>
                              <p:par>
                                <p:cTn id="289" nodeType="afterEffect" fill="hold" presetClass="entr" presetID="3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500"/>
                            </p:stCondLst>
                            <p:childTnLst>
                              <p:par>
                                <p:cTn id="296" nodeType="afterEffect" fill="hold" presetClass="entr" presetID="3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3" nodeType="afterEffect" fill="hold" presetClass="entr" presetID="3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спех индивидуального подхода обеспечивается реализацией следующих правил: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3640" y="2276640"/>
            <a:ext cx="856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троить отношения с учениками необходимо на основе высоких     этических нор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ребование инструментовать так, чтобы ученик воспринимал его не как диктат, а как свой добровольный выбор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процессе организации деятельности особое внимание обращать на создание ситуации успеха, осуществлять педагогическую поддержку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збегать скоропалительных, поспешных оценок поступкам и поведению ученик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мнить: взаимопонимание, сотрудничество с учеником возможно лишь в атмосфере доверия, уважения к его интересам, мнени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27">
                                  <p:stCondLst>
                                    <p:cond delay="3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7640"/>
                            </p:stCondLst>
                            <p:childTnLst>
                              <p:par>
                                <p:cTn id="323" nodeType="afterEffect" fill="hold" presetClass="entr" presetID="27">
                                  <p:stCondLst>
                                    <p:cond delay="3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4360"/>
                            </p:stCondLst>
                            <p:childTnLst>
                              <p:par>
                                <p:cTn id="329" nodeType="afterEffect" fill="hold" presetClass="entr" presetID="27">
                                  <p:stCondLst>
                                    <p:cond delay="3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8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2000"/>
                            </p:stCondLst>
                            <p:childTnLst>
                              <p:par>
                                <p:cTn id="335" nodeType="afterEffect" fill="hold" presetClass="entr" presetID="27">
                                  <p:stCondLst>
                                    <p:cond delay="3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8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7720"/>
                            </p:stCondLst>
                            <p:childTnLst>
                              <p:par>
                                <p:cTn id="341" nodeType="afterEffect" fill="hold" presetClass="entr" presetID="27">
                                  <p:stCondLst>
                                    <p:cond delay="3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8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77929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бота с родителями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979280" y="2781360"/>
            <a:ext cx="5329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Цель: создание воспитывающей среды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359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93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бщие правила: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Формирование педагогически верной воспитательной позиции родителей возможно в том случае, если просьбы и советы учителя будут восприняты ими как вытекающие из нужд и интересов детей, становления их личност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Характеризуя детей, следует предваряющей оценкой выдвигать положительную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ысокое уважение личности родителей как отца и матери, их родительских забот, их трудовой и общественной деятельност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6500"/>
                            </p:stCondLst>
                            <p:childTnLst>
                              <p:par>
                                <p:cTn id="372" nodeType="after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4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1000"/>
                            </p:stCondLst>
                            <p:childTnLst>
                              <p:par>
                                <p:cTn id="376" nodeType="after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793280" cy="4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держание  работы с родителями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5564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едагогическое просвещени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повещение о ходе развития ученик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комендации по созданию благоприятных семейных услови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общение к коллективной классной деятельност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суждение процесса и результатов воспитан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4500"/>
                            </p:stCondLst>
                            <p:childTnLst>
                              <p:par>
                                <p:cTn id="391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7000"/>
                            </p:stCondLst>
                            <p:childTnLst>
                              <p:par>
                                <p:cTn id="395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9500"/>
                            </p:stCondLst>
                            <p:childTnLst>
                              <p:par>
                                <p:cTn id="399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2000"/>
                            </p:stCondLst>
                            <p:childTnLst>
                              <p:par>
                                <p:cTn id="403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79292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ормы работы с родителями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411280" y="2637000"/>
            <a:ext cx="5577120" cy="25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одительское собрани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ндивидуальные бесед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исьма-характеристик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писки-извещен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0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4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3500"/>
                            </p:stCondLst>
                            <p:childTnLst>
                              <p:par>
                                <p:cTn id="42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8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214200"/>
            <a:ext cx="80438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ализация современных подходов в работе классного руководителя           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Щуркова Н.Е.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785680"/>
            <a:ext cx="2502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ношенческий под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075200"/>
            <a:ext cx="234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ятельност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х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53800" y="3067200"/>
            <a:ext cx="181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чност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ход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654160" y="4148280"/>
            <a:ext cx="179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бъект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х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071120" y="3427560"/>
            <a:ext cx="207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плекс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ход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32000" y="1989000"/>
            <a:ext cx="0" cy="194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187280" y="2060640"/>
            <a:ext cx="648000" cy="115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16360" y="206064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372360" y="2133720"/>
            <a:ext cx="0" cy="172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08720" y="2133720"/>
            <a:ext cx="648000" cy="115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0"/>
                            </p:stCondLst>
                            <p:childTnLst>
                              <p:par>
                                <p:cTn id="2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70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7500"/>
                            </p:stCondLst>
                            <p:childTnLst>
                              <p:par>
                                <p:cTn id="2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5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2500"/>
                            </p:stCondLst>
                            <p:childTnLst>
                              <p:par>
                                <p:cTn id="4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ри объекта внимания классного руководителя: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692360" y="2276640"/>
            <a:ext cx="503280" cy="1584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27640" y="2133720"/>
            <a:ext cx="0" cy="936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732720" y="2133720"/>
            <a:ext cx="503280" cy="1800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3965400"/>
            <a:ext cx="338472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-66672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ганиз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спитывающ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вающей деятельности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627280" y="3067560"/>
            <a:ext cx="28814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-66672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рганизация и разви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ллект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27600" y="4148640"/>
            <a:ext cx="31525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ановление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е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500"/>
                            </p:stCondLst>
                            <p:childTnLst>
                              <p:par>
                                <p:cTn id="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42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920"/>
                            </p:stCondLst>
                            <p:childTnLst>
                              <p:par>
                                <p:cTn id="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760"/>
                            </p:stCondLst>
                            <p:childTnLst>
                              <p:par>
                                <p:cTn id="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62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6700"/>
                            </p:stCondLst>
                            <p:childTnLst>
                              <p:par>
                                <p:cTn id="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793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рганизация воспитывающей деятельности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2556000" y="2276640"/>
            <a:ext cx="37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оспитательное мероприя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268360" y="3429000"/>
            <a:ext cx="64800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12000" y="3645000"/>
            <a:ext cx="503280" cy="93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71640" y="4508640"/>
            <a:ext cx="252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мет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зульт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19640" y="4651560"/>
            <a:ext cx="26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спитатель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зульт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500"/>
                            </p:stCondLst>
                            <p:childTnLst>
                              <p:par>
                                <p:cTn id="1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793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иды деятельности: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68360" y="2565360"/>
            <a:ext cx="460872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знавательна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щественно-полезна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ценностно-ориентировочна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художественно-творческа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вободного общен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бщие методические требования к организации воспитывающей деятельности классного руководителя: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18920" y="2421000"/>
            <a:ext cx="6264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пределение воспитательной задач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нцентрация внимания учащихся на предметном результате деятельност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пределение роли и функции каждого ученик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едагогический контроль и оценк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500"/>
                            </p:stCondLst>
                            <p:childTnLst>
                              <p:par>
                                <p:cTn id="173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9000"/>
                            </p:stCondLst>
                            <p:childTnLst>
                              <p:par>
                                <p:cTn id="177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81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7932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рганизация и развитие коллектив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ные направления работы классного руководителя по организации и развитию классного коллектив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ганизация коллективной деятельност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ганизация самоуправлен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ганизация перспективы развития коллектив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ганизация традиций коллектив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здействие на межличностные отношения в классном коллектив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560"/>
                            </p:stCondLst>
                            <p:childTnLst>
                              <p:par>
                                <p:cTn id="198" nodeType="afterEffect" fill="hold" presetClass="entr" presetID="3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9560"/>
                            </p:stCondLst>
                            <p:childTnLst>
                              <p:par>
                                <p:cTn id="205" nodeType="afterEffect" fill="hold" presetClass="entr" presetID="3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3560"/>
                            </p:stCondLst>
                            <p:childTnLst>
                              <p:par>
                                <p:cTn id="212" nodeType="afterEffect" fill="hold" presetClass="entr" presetID="3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7560"/>
                            </p:stCondLst>
                            <p:childTnLst>
                              <p:par>
                                <p:cTn id="219" nodeType="afterEffect" fill="hold" presetClass="entr" presetID="3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1560"/>
                            </p:stCondLst>
                            <p:childTnLst>
                              <p:par>
                                <p:cTn id="226" nodeType="afterEffect" fill="hold" presetClass="entr" presetID="3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5640" y="62028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казатели развития коллектива: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16000" y="24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обильность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оварищеские взаимоотношен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ажорное мироощущени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ственность за коллективное дело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амостоятельное выдвижение общественно-значимых целе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60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1403280" y="1628280"/>
            <a:ext cx="6696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Становление личности ученика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4T09:35:46Z</dcterms:created>
  <dc:creator>Home</dc:creator>
  <dc:description/>
  <dc:language>en-US</dc:language>
  <cp:lastModifiedBy>Липкина</cp:lastModifiedBy>
  <dcterms:modified xsi:type="dcterms:W3CDTF">2007-09-20T01:52:21Z</dcterms:modified>
  <cp:revision>5</cp:revision>
  <dc:subject/>
  <dc:title>Слайд 1</dc:title>
</cp:coreProperties>
</file>