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2D8-053B-41B4-8F32-F2BF7E6F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BD5-E9DC-4F8A-B1EB-0276E030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DF8-A34C-4041-A63A-BD121096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F83-B113-43CC-AB36-5235B09F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36C7-0E74-4802-8F36-82C04B14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2C9B-C63F-4965-A529-38D2BF92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0E65-B594-4321-B269-215DD8F4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FF70-8F42-4D53-ABFC-403F60EC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7DCD-2148-480A-947D-AC850CDA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0919-5E7D-451A-994D-1B6C108F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B55A-D5B5-43BD-9EA9-3F9A4298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CAA-FC35-4F62-BC28-E88C3A7E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16C-53B0-4635-BFC1-DD88F74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BD4C-E595-4EC5-9C1C-D3B3F2F7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7193-C102-4331-BF3A-A99E65F8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7450-B8F6-469B-84AE-74145FAA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322C-4A45-4AAA-AEB0-7D6572DC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346-07B8-4DBE-A414-A156FD4D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3A4-A0C1-459B-9F10-4C93E75F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8A2-88E9-4B90-9173-439B4B8B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BD3-E5CB-49ED-BAF8-A14EBD0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3C6-CAC0-4DAA-9B50-ED811788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1BC-0635-43C3-86EE-65AEB5C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F68-C634-49DC-8DD4-68845C06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F9DD-9788-4D1C-A1E3-8A0C4852CA5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D8B3-1F30-4822-97CE-D1D2789F1CF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1628640"/>
            <a:ext cx="73184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е общение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 rot="20832600">
            <a:off x="611280" y="1413000"/>
            <a:ext cx="7993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ическая защи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общен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47628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800080"/>
                </a:solidFill>
                <a:uFillTx/>
                <a:latin typeface="Times New Roman"/>
              </a:rPr>
              <a:t>Этическая защита в общении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Times New Roman"/>
              </a:rPr>
              <a:t>-это защита человека от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Times New Roman"/>
              </a:rPr>
              <a:t>посягательства на его достоинство,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Times New Roman"/>
              </a:rPr>
              <a:t>производимая морально-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Times New Roman"/>
              </a:rPr>
              <a:t>этическими средствами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16000" y="0"/>
            <a:ext cx="7416720" cy="20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нкции этической защиты :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8360" y="2421000"/>
            <a:ext cx="7808400" cy="1130040"/>
            <a:chOff x="468360" y="2421000"/>
            <a:chExt cx="7808400" cy="1130040"/>
          </a:xfrm>
        </p:grpSpPr>
        <p:sp>
          <p:nvSpPr>
            <p:cNvPr id="177" name=""/>
            <p:cNvSpPr/>
            <p:nvPr/>
          </p:nvSpPr>
          <p:spPr>
            <a:xfrm>
              <a:off x="468360" y="270972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20680" y="2421000"/>
              <a:ext cx="7156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сохранение </a:t>
              </a:r>
              <a:r>
                <a:rPr b="1" i="1" lang="ru-RU" sz="4000" spc="-1" strike="noStrike">
                  <a:solidFill>
                    <a:srgbClr val="008000"/>
                  </a:solidFill>
                  <a:latin typeface="Times New Roman"/>
                </a:rPr>
                <a:t>достоинства педагога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как человека;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8360" y="3573360"/>
            <a:ext cx="6951600" cy="1130040"/>
            <a:chOff x="468360" y="3573360"/>
            <a:chExt cx="6951600" cy="1130040"/>
          </a:xfrm>
        </p:grpSpPr>
        <p:sp>
          <p:nvSpPr>
            <p:cNvPr id="180" name=""/>
            <p:cNvSpPr/>
            <p:nvPr/>
          </p:nvSpPr>
          <p:spPr>
            <a:xfrm>
              <a:off x="468360" y="386388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1960" y="3573360"/>
              <a:ext cx="6228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иметь целью </a:t>
              </a:r>
              <a:r>
                <a:rPr b="1" i="1" lang="ru-RU" sz="4000" spc="-1" strike="noStrike">
                  <a:solidFill>
                    <a:srgbClr val="008000"/>
                  </a:solidFill>
                  <a:latin typeface="Times New Roman"/>
                </a:rPr>
                <a:t>корректировать</a:t>
              </a: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недостойное поведение ребенка;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39640" y="5013360"/>
            <a:ext cx="8032320" cy="1556640"/>
            <a:chOff x="539640" y="5013360"/>
            <a:chExt cx="8032320" cy="1556640"/>
          </a:xfrm>
        </p:grpSpPr>
        <p:sp>
          <p:nvSpPr>
            <p:cNvPr id="183" name=""/>
            <p:cNvSpPr/>
            <p:nvPr/>
          </p:nvSpPr>
          <p:spPr>
            <a:xfrm>
              <a:off x="539640" y="522936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65040" y="5013360"/>
              <a:ext cx="730692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в своей реализации выполнять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роль </a:t>
              </a:r>
              <a:r>
                <a:rPr b="1" i="1" lang="ru-RU" sz="4000" spc="-1" strike="noStrike">
                  <a:solidFill>
                    <a:srgbClr val="008000"/>
                  </a:solidFill>
                  <a:latin typeface="Times New Roman"/>
                </a:rPr>
                <a:t>поддержки </a:t>
              </a: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ребенка, сохраняя его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достоинства;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 rot="293400">
            <a:off x="520560" y="402840"/>
            <a:ext cx="792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особы этической защит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316440" y="1700280"/>
            <a:ext cx="883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Вопрос об адресате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Это вы – мне?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Вопрос о воспроизведении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Простите, н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онял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Окультуренное воспроизведение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Если я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вас правильно понял, вы хотели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Ссылка на особенности своего характера»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Что же делать, я не привык к 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Оправдание поведения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Вероятно, у ва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есть причины так говорить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1773360"/>
            <a:ext cx="8985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Проявление доброжелательности»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Хорошо, что вы…, так как мне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Великодушное прощение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Если вам так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хочется, пусть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Сопоставление поведения с достоинствам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артнера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Вы такой …, а 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Оставить наедине с собою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Как жаль, чт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вы не понимаете, что происходит 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Доведение до абсурда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 А я думал, что …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а оказывается,  я 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 rot="293400">
            <a:off x="520560" y="402840"/>
            <a:ext cx="792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особы этической защит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476360" y="476280"/>
            <a:ext cx="6408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Техники слуша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51720" y="2060640"/>
            <a:ext cx="8791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8963"/>
                </a:solidFill>
                <a:latin typeface="Times New Roman"/>
              </a:rPr>
              <a:t>Активно слушать ребенка –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8963"/>
                </a:solidFill>
                <a:latin typeface="Times New Roman"/>
              </a:rPr>
              <a:t>значит «возвращать» ему в беседе то,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8963"/>
                </a:solidFill>
                <a:latin typeface="Times New Roman"/>
              </a:rPr>
              <a:t>что он вам поведал, при этом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8963"/>
                </a:solidFill>
                <a:latin typeface="Times New Roman"/>
              </a:rPr>
              <a:t>обозначив его чувство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33200" y="260280"/>
            <a:ext cx="9010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иёмы, используемы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активном слушан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0320" y="2060640"/>
            <a:ext cx="7788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вернуться лицом к ребенку. Очень важно, чтоб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его и ваши глаза находились на одном уровн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Желательно, чтобы ваши ответы звучали в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утвердительной форм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чень важно в беседе «держать паузу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зно повторить, что, как вы поняли, случилось 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ебенком, а потом обозначить его чувство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476360" y="404640"/>
            <a:ext cx="67676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даёт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тивное слушание?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546120" y="2133720"/>
            <a:ext cx="8177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83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счезает или сильно ослабевает отрицательно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ереживание ребенк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983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Ребенок, убедившись, что взрослый готов ег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лушать, начинает рассказывать о себе больше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983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Ребенок сам продвигается в решении своих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облем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983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32000" y="1773360"/>
            <a:ext cx="655308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Спасибо за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внимание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908000" y="3141720"/>
            <a:ext cx="433440" cy="649080"/>
            <a:chOff x="1908000" y="3141720"/>
            <a:chExt cx="433440" cy="649080"/>
          </a:xfrm>
        </p:grpSpPr>
        <p:sp>
          <p:nvSpPr>
            <p:cNvPr id="203" name=""/>
            <p:cNvSpPr/>
            <p:nvPr/>
          </p:nvSpPr>
          <p:spPr>
            <a:xfrm>
              <a:off x="2196720" y="3284640"/>
              <a:ext cx="0" cy="36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052000" y="3646440"/>
              <a:ext cx="144360" cy="144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96720" y="3646440"/>
              <a:ext cx="144720" cy="144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052000" y="3430440"/>
              <a:ext cx="144360" cy="144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96720" y="3430440"/>
              <a:ext cx="144720" cy="144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8000" y="3141720"/>
              <a:ext cx="288720" cy="2174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900000" y="2349360"/>
            <a:ext cx="1441440" cy="2619000"/>
            <a:chOff x="900000" y="2349360"/>
            <a:chExt cx="1441440" cy="2619000"/>
          </a:xfrm>
        </p:grpSpPr>
        <p:sp>
          <p:nvSpPr>
            <p:cNvPr id="210" name=""/>
            <p:cNvSpPr/>
            <p:nvPr/>
          </p:nvSpPr>
          <p:spPr>
            <a:xfrm>
              <a:off x="903240" y="450864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СВЕРХ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00000" y="2349360"/>
              <a:ext cx="504720" cy="1008000"/>
              <a:chOff x="900000" y="2349360"/>
              <a:chExt cx="504720" cy="1008000"/>
            </a:xfrm>
          </p:grpSpPr>
          <p:sp>
            <p:nvSpPr>
              <p:cNvPr id="212" name=""/>
              <p:cNvSpPr/>
              <p:nvPr/>
            </p:nvSpPr>
            <p:spPr>
              <a:xfrm>
                <a:off x="1117440" y="2565360"/>
                <a:ext cx="0" cy="57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900000" y="3141360"/>
                <a:ext cx="217440" cy="21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7440" y="3141360"/>
                <a:ext cx="215640" cy="21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900000" y="2781000"/>
                <a:ext cx="21744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17440" y="2781000"/>
                <a:ext cx="21564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44360" y="2349360"/>
                <a:ext cx="360360" cy="2887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908000" y="3141720"/>
              <a:ext cx="433440" cy="649080"/>
              <a:chOff x="1908000" y="3141720"/>
              <a:chExt cx="433440" cy="6490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96720" y="3284640"/>
                <a:ext cx="0" cy="360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2000" y="3646440"/>
                <a:ext cx="144360" cy="144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96720" y="3646440"/>
                <a:ext cx="144720" cy="144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52000" y="3430440"/>
                <a:ext cx="14436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96720" y="3430440"/>
                <a:ext cx="14472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08000" y="3141720"/>
                <a:ext cx="288720" cy="2174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3924360" y="2708280"/>
            <a:ext cx="1548720" cy="2260080"/>
            <a:chOff x="3924360" y="2708280"/>
            <a:chExt cx="1548720" cy="2260080"/>
          </a:xfrm>
        </p:grpSpPr>
        <p:sp>
          <p:nvSpPr>
            <p:cNvPr id="226" name=""/>
            <p:cNvSpPr/>
            <p:nvPr/>
          </p:nvSpPr>
          <p:spPr>
            <a:xfrm>
              <a:off x="4212000" y="450864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СНИЗ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924360" y="3284640"/>
              <a:ext cx="504720" cy="1008000"/>
              <a:chOff x="3924360" y="3284640"/>
              <a:chExt cx="504720" cy="1008000"/>
            </a:xfrm>
          </p:grpSpPr>
          <p:sp>
            <p:nvSpPr>
              <p:cNvPr id="228" name=""/>
              <p:cNvSpPr/>
              <p:nvPr/>
            </p:nvSpPr>
            <p:spPr>
              <a:xfrm>
                <a:off x="4141800" y="3500640"/>
                <a:ext cx="0" cy="57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924360" y="4076640"/>
                <a:ext cx="217440" cy="21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41800" y="4076640"/>
                <a:ext cx="215640" cy="21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3924360" y="3716280"/>
                <a:ext cx="21744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41800" y="3716280"/>
                <a:ext cx="21564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68720" y="3284640"/>
                <a:ext cx="360360" cy="2887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003640" y="2708280"/>
              <a:ext cx="433440" cy="649080"/>
              <a:chOff x="5003640" y="2708280"/>
              <a:chExt cx="433440" cy="649080"/>
            </a:xfrm>
          </p:grpSpPr>
          <p:sp>
            <p:nvSpPr>
              <p:cNvPr id="235" name=""/>
              <p:cNvSpPr/>
              <p:nvPr/>
            </p:nvSpPr>
            <p:spPr>
              <a:xfrm>
                <a:off x="5292360" y="2851200"/>
                <a:ext cx="0" cy="360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147640" y="3213000"/>
                <a:ext cx="144360" cy="144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92360" y="3213000"/>
                <a:ext cx="144720" cy="144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5147640" y="2997000"/>
                <a:ext cx="14436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92360" y="2997000"/>
                <a:ext cx="14472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03640" y="2708280"/>
                <a:ext cx="288720" cy="2174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755640" y="1916280"/>
            <a:ext cx="7559640" cy="2017440"/>
            <a:chOff x="755640" y="1916280"/>
            <a:chExt cx="7559640" cy="2017440"/>
          </a:xfrm>
        </p:grpSpPr>
        <p:sp>
          <p:nvSpPr>
            <p:cNvPr id="85" name=""/>
            <p:cNvSpPr/>
            <p:nvPr/>
          </p:nvSpPr>
          <p:spPr>
            <a:xfrm>
              <a:off x="7380360" y="2349360"/>
              <a:ext cx="431640" cy="0"/>
            </a:xfrm>
            <a:prstGeom prst="line">
              <a:avLst/>
            </a:prstGeom>
            <a:ln w="7632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55640" y="1916280"/>
              <a:ext cx="7559640" cy="2017440"/>
              <a:chOff x="755640" y="1916280"/>
              <a:chExt cx="7559640" cy="2017440"/>
            </a:xfrm>
          </p:grpSpPr>
          <p:sp>
            <p:nvSpPr>
              <p:cNvPr id="87" name=""/>
              <p:cNvSpPr txBox="1"/>
              <p:nvPr/>
            </p:nvSpPr>
            <p:spPr>
              <a:xfrm>
                <a:off x="755640" y="1916280"/>
                <a:ext cx="2664000" cy="666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Общение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635280" y="2276640"/>
                <a:ext cx="576360" cy="0"/>
              </a:xfrm>
              <a:prstGeom prst="line">
                <a:avLst/>
              </a:prstGeom>
              <a:ln w="76320">
                <a:solidFill>
                  <a:srgbClr val="5789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4427640" y="2060640"/>
                <a:ext cx="2735280" cy="450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отношение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596360" y="2133720"/>
                <a:ext cx="0" cy="431640"/>
              </a:xfrm>
              <a:prstGeom prst="line">
                <a:avLst/>
              </a:prstGeom>
              <a:ln w="76320">
                <a:solidFill>
                  <a:srgbClr val="5789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1187280" y="3141720"/>
                <a:ext cx="712800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характер взаимодействия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03280" y="836640"/>
            <a:ext cx="6337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стройки в общении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804000" y="2133720"/>
            <a:ext cx="1451160" cy="2475720"/>
            <a:chOff x="6804000" y="2133720"/>
            <a:chExt cx="1451160" cy="2475720"/>
          </a:xfrm>
        </p:grpSpPr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6804000" y="2133720"/>
              <a:ext cx="1451160" cy="18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804720" y="4149720"/>
              <a:ext cx="132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РЯДОМ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708360" y="3716280"/>
            <a:ext cx="2448000" cy="2909160"/>
            <a:chOff x="3708360" y="3716280"/>
            <a:chExt cx="2448000" cy="290916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3708360" y="4365720"/>
              <a:ext cx="128916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4932360" y="3716280"/>
              <a:ext cx="12240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88360" y="61657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СНИЗ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8360" y="1989000"/>
            <a:ext cx="2308320" cy="3628440"/>
            <a:chOff x="468360" y="1989000"/>
            <a:chExt cx="2308320" cy="3628440"/>
          </a:xfrm>
        </p:grpSpPr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1116000" y="1989000"/>
              <a:ext cx="1660680" cy="17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9"/>
            <a:stretch/>
          </p:blipFill>
          <p:spPr>
            <a:xfrm>
              <a:off x="468360" y="3716280"/>
              <a:ext cx="12240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190520" y="515772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СВЕРХ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619280" y="260280"/>
            <a:ext cx="5832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и "Я" человека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1280" y="1844640"/>
            <a:ext cx="6397560" cy="1068840"/>
            <a:chOff x="611280" y="1844640"/>
            <a:chExt cx="6397560" cy="1068840"/>
          </a:xfrm>
        </p:grpSpPr>
        <p:sp>
          <p:nvSpPr>
            <p:cNvPr id="108" name=""/>
            <p:cNvSpPr/>
            <p:nvPr/>
          </p:nvSpPr>
          <p:spPr>
            <a:xfrm>
              <a:off x="611280" y="206064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4600" y="1844640"/>
              <a:ext cx="575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d60093"/>
                  </a:solidFill>
                  <a:latin typeface="Times New Roman"/>
                </a:rPr>
                <a:t>дитя</a:t>
              </a:r>
              <a:r>
                <a:rPr b="1" i="1" lang="ru-RU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(зависимое, подчиняемое,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безответственное);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1280" y="2997360"/>
            <a:ext cx="8281440" cy="1556280"/>
            <a:chOff x="611280" y="2997360"/>
            <a:chExt cx="8281440" cy="1556280"/>
          </a:xfrm>
        </p:grpSpPr>
        <p:sp>
          <p:nvSpPr>
            <p:cNvPr id="111" name=""/>
            <p:cNvSpPr/>
            <p:nvPr/>
          </p:nvSpPr>
          <p:spPr>
            <a:xfrm>
              <a:off x="611280" y="314172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3160" y="2997360"/>
              <a:ext cx="7639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d60093"/>
                  </a:solidFill>
                  <a:latin typeface="Times New Roman"/>
                </a:rPr>
                <a:t>родитель</a:t>
              </a:r>
              <a:r>
                <a:rPr b="1" i="1" lang="ru-RU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(независимый, не подчиняемый,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берущий всю ответственность только на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себя);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11280" y="4724280"/>
            <a:ext cx="8485920" cy="1068840"/>
            <a:chOff x="611280" y="4724280"/>
            <a:chExt cx="8485920" cy="1068840"/>
          </a:xfrm>
        </p:grpSpPr>
        <p:sp>
          <p:nvSpPr>
            <p:cNvPr id="114" name=""/>
            <p:cNvSpPr/>
            <p:nvPr/>
          </p:nvSpPr>
          <p:spPr>
            <a:xfrm>
              <a:off x="611280" y="479736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52080" y="4724280"/>
              <a:ext cx="784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d60093"/>
                  </a:solidFill>
                  <a:latin typeface="Times New Roman"/>
                </a:rPr>
                <a:t>взрослый</a:t>
              </a:r>
              <a:r>
                <a:rPr b="1" i="1" lang="ru-RU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(умеющий считаться с ситуацией,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понимать интересы других людей)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35280" y="404640"/>
            <a:ext cx="583236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овни общ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280" y="1844640"/>
            <a:ext cx="7056360" cy="5457600"/>
            <a:chOff x="611280" y="1844640"/>
            <a:chExt cx="7056360" cy="5457600"/>
          </a:xfrm>
        </p:grpSpPr>
        <p:sp>
          <p:nvSpPr>
            <p:cNvPr id="119" name=""/>
            <p:cNvSpPr/>
            <p:nvPr/>
          </p:nvSpPr>
          <p:spPr>
            <a:xfrm>
              <a:off x="1095480" y="1844640"/>
              <a:ext cx="6572160" cy="54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примитивны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манипулятивны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стандартизированны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конвенциональны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игрово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духовный.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buClr>
                  <a:srgbClr val="3333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1280" y="206064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1280" y="270828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280" y="328464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280" y="393372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" y="458136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15772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8880" y="620640"/>
            <a:ext cx="8992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ОБЩЕНИЕ</a:t>
            </a:r>
            <a:r>
              <a:rPr b="1" i="1" lang="ru-RU" sz="2400" spc="-1" strike="noStrike">
                <a:solidFill>
                  <a:srgbClr val="d2aad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c7d79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взаимодействие субъектов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в процессе которого происходи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взаимная трансляция «Я» субъектов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Общение преобразует духовное достоя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одного человека в общее достоя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субъектов общения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(Н.Е. Щуркова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95280" y="1125360"/>
            <a:ext cx="8777520" cy="1079640"/>
            <a:chOff x="395280" y="1125360"/>
            <a:chExt cx="8777520" cy="1079640"/>
          </a:xfrm>
        </p:grpSpPr>
        <p:grpSp>
          <p:nvGrpSpPr>
            <p:cNvPr id="130" name=""/>
            <p:cNvGrpSpPr/>
            <p:nvPr/>
          </p:nvGrpSpPr>
          <p:grpSpPr>
            <a:xfrm>
              <a:off x="395280" y="1125360"/>
              <a:ext cx="4105440" cy="1079640"/>
              <a:chOff x="395280" y="1125360"/>
              <a:chExt cx="4105440" cy="1079640"/>
            </a:xfrm>
          </p:grpSpPr>
          <p:sp>
            <p:nvSpPr>
              <p:cNvPr id="131" name=""/>
              <p:cNvSpPr/>
              <p:nvPr/>
            </p:nvSpPr>
            <p:spPr>
              <a:xfrm>
                <a:off x="395280" y="1125360"/>
                <a:ext cx="1368360" cy="1079640"/>
              </a:xfrm>
              <a:prstGeom prst="ellipse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33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32000" y="1125360"/>
                <a:ext cx="1368720" cy="1079640"/>
              </a:xfrm>
              <a:prstGeom prst="ellipse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33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24000" y="1484280"/>
                <a:ext cx="863640" cy="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050560" y="1844640"/>
                <a:ext cx="863640" cy="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860720" y="1268280"/>
              <a:ext cx="431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33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Это простое и бесхитростно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взаимодействи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55640" y="2852640"/>
            <a:ext cx="8097480" cy="1079280"/>
            <a:chOff x="755640" y="2852640"/>
            <a:chExt cx="8097480" cy="1079280"/>
          </a:xfrm>
        </p:grpSpPr>
        <p:grpSp>
          <p:nvGrpSpPr>
            <p:cNvPr id="137" name=""/>
            <p:cNvGrpSpPr/>
            <p:nvPr/>
          </p:nvGrpSpPr>
          <p:grpSpPr>
            <a:xfrm>
              <a:off x="755640" y="2852640"/>
              <a:ext cx="8097480" cy="1079280"/>
              <a:chOff x="755640" y="2852640"/>
              <a:chExt cx="8097480" cy="1079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755640" y="2852640"/>
                <a:ext cx="2736720" cy="1079280"/>
                <a:chOff x="755640" y="2852640"/>
                <a:chExt cx="2736720" cy="1079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55640" y="2852640"/>
                  <a:ext cx="1368360" cy="1079280"/>
                </a:xfrm>
                <a:prstGeom prst="ellipse">
                  <a:avLst/>
                </a:prstGeom>
                <a:noFill/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124000" y="2852640"/>
                  <a:ext cx="1368360" cy="1079280"/>
                </a:xfrm>
                <a:prstGeom prst="ellipse">
                  <a:avLst/>
                </a:prstGeom>
                <a:noFill/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3746880" y="2925720"/>
                <a:ext cx="510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333333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Это общение в его потенциальном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 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развертывании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2268720" y="3357360"/>
              <a:ext cx="2872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2360" y="3357360"/>
              <a:ext cx="2872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971640" y="4653000"/>
            <a:ext cx="8166240" cy="1191240"/>
            <a:chOff x="971640" y="4653000"/>
            <a:chExt cx="8166240" cy="1191240"/>
          </a:xfrm>
        </p:grpSpPr>
        <p:grpSp>
          <p:nvGrpSpPr>
            <p:cNvPr id="146" name=""/>
            <p:cNvGrpSpPr/>
            <p:nvPr/>
          </p:nvGrpSpPr>
          <p:grpSpPr>
            <a:xfrm>
              <a:off x="971640" y="4653000"/>
              <a:ext cx="8166240" cy="1191240"/>
              <a:chOff x="971640" y="4653000"/>
              <a:chExt cx="8166240" cy="1191240"/>
            </a:xfrm>
          </p:grpSpPr>
          <p:sp>
            <p:nvSpPr>
              <p:cNvPr id="147" name=""/>
              <p:cNvSpPr/>
              <p:nvPr/>
            </p:nvSpPr>
            <p:spPr>
              <a:xfrm>
                <a:off x="3691800" y="4653000"/>
                <a:ext cx="5446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333333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Это общение как взаимная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трансляция одного «Я» другому «Я» 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своего внутреннего мира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971640" y="4653000"/>
                <a:ext cx="2376360" cy="1079640"/>
                <a:chOff x="971640" y="4653000"/>
                <a:chExt cx="2376360" cy="1079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979640" y="4653000"/>
                  <a:ext cx="1368360" cy="1079640"/>
                </a:xfrm>
                <a:prstGeom prst="ellipse">
                  <a:avLst/>
                </a:prstGeom>
                <a:noFill/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S2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71640" y="4653000"/>
                  <a:ext cx="1368360" cy="1079640"/>
                </a:xfrm>
                <a:prstGeom prst="ellipse">
                  <a:avLst/>
                </a:prstGeom>
                <a:noFill/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S1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1979640" y="4869000"/>
                <a:ext cx="216000" cy="431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052360" y="4941720"/>
                <a:ext cx="215640" cy="432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124000" y="5084640"/>
                <a:ext cx="216000" cy="432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835280" y="4941720"/>
              <a:ext cx="7207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834920" y="5300640"/>
              <a:ext cx="6490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979640" y="907920"/>
            <a:ext cx="5616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Функции общени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0920" y="2133720"/>
            <a:ext cx="3168720" cy="2303280"/>
            <a:chOff x="250920" y="2133720"/>
            <a:chExt cx="3168720" cy="2303280"/>
          </a:xfrm>
        </p:grpSpPr>
        <p:sp>
          <p:nvSpPr>
            <p:cNvPr id="158" name=""/>
            <p:cNvSpPr/>
            <p:nvPr/>
          </p:nvSpPr>
          <p:spPr>
            <a:xfrm flipH="1">
              <a:off x="2195640" y="2133720"/>
              <a:ext cx="1224000" cy="647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20" y="2924280"/>
              <a:ext cx="2663640" cy="1512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«открытие»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ребенка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на общени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92360" y="2133720"/>
            <a:ext cx="2449800" cy="2303280"/>
            <a:chOff x="3492360" y="2133720"/>
            <a:chExt cx="2449800" cy="2303280"/>
          </a:xfrm>
        </p:grpSpPr>
        <p:sp>
          <p:nvSpPr>
            <p:cNvPr id="161" name=""/>
            <p:cNvSpPr/>
            <p:nvPr/>
          </p:nvSpPr>
          <p:spPr>
            <a:xfrm>
              <a:off x="4788000" y="2133720"/>
              <a:ext cx="0" cy="647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2360" y="2924280"/>
              <a:ext cx="2449800" cy="1512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«соучастие»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ребенк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в процесс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общения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00720" y="2133720"/>
            <a:ext cx="2664000" cy="2303280"/>
            <a:chOff x="6300720" y="2133720"/>
            <a:chExt cx="2664000" cy="2303280"/>
          </a:xfrm>
        </p:grpSpPr>
        <p:sp>
          <p:nvSpPr>
            <p:cNvPr id="164" name=""/>
            <p:cNvSpPr/>
            <p:nvPr/>
          </p:nvSpPr>
          <p:spPr>
            <a:xfrm>
              <a:off x="6300720" y="2133720"/>
              <a:ext cx="1224000" cy="5745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00720" y="2924280"/>
              <a:ext cx="2664000" cy="1512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«возвышение»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ребенка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в процесс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общения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26920" y="476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ринципы гуманистическог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общения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421000"/>
            <a:ext cx="48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2060640"/>
            <a:ext cx="7705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уважение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неприкосновенность личности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признание, как данности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6:32:30Z</dcterms:created>
  <dc:creator>1</dc:creator>
  <dc:description/>
  <dc:language>en-US</dc:language>
  <cp:lastModifiedBy>sch77-book5</cp:lastModifiedBy>
  <dcterms:modified xsi:type="dcterms:W3CDTF">2007-05-30T08:25:25Z</dcterms:modified>
  <cp:revision>17</cp:revision>
  <dc:subject/>
  <dc:title>Заголовок слайда отсутствует</dc:title>
</cp:coreProperties>
</file>