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362-FB4B-49DC-867A-5A4D9C28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CB4-8341-470B-905B-421FB149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77C-9B39-4502-A27C-550F3B2A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E9C-7C9B-403E-BB78-036B9F9B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4E0C-08A3-43AC-9EFA-CF845B93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364B-BEE5-43F1-B2CB-6AA46B92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1F67-A0C2-4942-973F-000F3FCB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DAA6-C83C-473D-8C91-F648FF8A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6327-8B14-43A0-AFED-519E7336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A546-3363-4C9B-9C1B-BBD3B097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C9A6-D01E-4291-B08D-7A5316AD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DB5-681F-4BA0-AC65-7111C7B5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55B8-D1DE-4EF4-B256-0233DB7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5D1C-B961-442C-8A0F-44A49C6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B737-2E87-4785-A023-798867AD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63C9-3B1A-4A8E-B9C9-49FB1B98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E970-D5F2-40C1-A34D-F218AD62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BAB-D767-4E54-A42E-624CD708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648-0283-4701-9244-448C079B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1F4-9371-4655-9718-E544239E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5C0-05A8-4A77-AC88-6CA4953B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353-A73C-47DA-B674-69129B8F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3B6-19B7-46EA-88AA-4ED04F8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06A-798C-4A67-9D35-C0AC500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0C2A-7B93-402E-A0D8-143C4BB0686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AA31-7557-4D9C-BC11-C2855CCDFAA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207400">
            <a:off x="468000" y="1557360"/>
            <a:ext cx="7920000" cy="289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 "контрактов"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796000" y="4005360"/>
            <a:ext cx="3151080" cy="2614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7715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Каков срок выполнения контракта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77868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7000" spc="-1" strike="noStrike">
                <a:solidFill>
                  <a:srgbClr val="9933ff"/>
                </a:solidFill>
                <a:latin typeface="Monotype Corsiva"/>
              </a:rPr>
              <a:t>Каковы форма и регла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мент</a:t>
            </a:r>
            <a:r>
              <a:rPr b="0" i="1" lang="ru-RU" sz="7000" spc="-1" strike="noStrike">
                <a:solidFill>
                  <a:srgbClr val="9933ff"/>
                </a:solidFill>
                <a:latin typeface="Monotype Corsiva"/>
              </a:rPr>
              <a:t> взаимодействия учащегося с преподавателем?</a:t>
            </a:r>
            <a:endParaRPr b="0" lang="en-US" sz="7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 rot="657000">
            <a:off x="7667640" y="5157360"/>
            <a:ext cx="12286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После обсуждения всех вопросов составляется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Comic Sans MS"/>
              </a:rPr>
              <a:t>текст контракта,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который подписывается обеими сторонами и оглашается в классе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Вы ознакомились с одним из основных методов работы учителя – 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Verdana"/>
              </a:rPr>
              <a:t>методом контракт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5805360"/>
            <a:ext cx="8244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Спасибо за внимание!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95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Comic Sans MS"/>
              </a:rPr>
              <a:t>Сущность метода: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Конкретное содержание обучения для каждого учащегося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е задается требованиями программы или методики,</a:t>
            </a: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а является результатом совместного договора учителя и учеников –</a:t>
            </a: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«контракта»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При обсуждении и разработке контракта важно продумать</a:t>
            </a: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следующие вопросы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55280" y="1268280"/>
            <a:ext cx="77151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Кто именно и в каком составе будет выполнять контракт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15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Что конкретно предполагается сделать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00cc"/>
                </a:solidFill>
                <a:latin typeface="Monotype Corsiva"/>
              </a:rPr>
              <a:t>(тема и основная проблема контракта)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713916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Каков ожидаемый результат для учащегося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203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859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Что должно получиться в качестве конечного продукта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08720" y="4797360"/>
            <a:ext cx="15130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715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8000" spc="-1" strike="noStrike">
                <a:solidFill>
                  <a:srgbClr val="9933ff"/>
                </a:solidFill>
                <a:latin typeface="Monotype Corsiva"/>
              </a:rPr>
              <a:t>Как и по каким критериям будет оцениваться контракт?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1240200">
            <a:off x="7164360" y="260280"/>
            <a:ext cx="1771560" cy="1771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18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7200" spc="-1" strike="noStrike">
                <a:solidFill>
                  <a:srgbClr val="9933ff"/>
                </a:solidFill>
                <a:latin typeface="Monotype Corsiva"/>
              </a:rPr>
              <a:t>Какие ресурсы могут понадобиться для работы над контрактом </a:t>
            </a:r>
            <a:r>
              <a:rPr b="0" i="1" lang="ru-RU" sz="7200" spc="-1" strike="noStrike">
                <a:solidFill>
                  <a:srgbClr val="0000ff"/>
                </a:solidFill>
                <a:latin typeface="Monotype Corsiva"/>
              </a:rPr>
              <a:t>и где их найти?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sanovaII</cp:lastModifiedBy>
  <dcterms:modified xsi:type="dcterms:W3CDTF">2007-01-10T13:48:27Z</dcterms:modified>
  <cp:revision>4</cp:revision>
  <dc:subject/>
  <dc:title>PowerPoint Presentation</dc:title>
</cp:coreProperties>
</file>