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444-1637-4523-96FD-76E75425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0A9-7899-4E66-B0C5-B1E150FA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6B0-923F-41AA-B5A2-8E5E5A1E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069-0DE6-4537-8D3F-66BE50CA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501B-4D65-4E2F-856E-306D5D00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8240-869F-477C-933C-72F3C776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8A14-5002-4126-B784-B7C9936C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ED71-7EC2-4C8E-B358-12F08123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D083-E39F-4140-B2FB-A7D0F6AD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9DAB-C12B-486B-9B24-35A2BA8A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B7D0-4D09-4173-8E07-E3D30E62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B31-3BA3-4961-AEDE-DD2A2A91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E75E-805D-44EF-B39F-1DF6ABA5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1580-CA10-4A29-BCBB-5178C899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BDFA-7D1C-415E-A141-F3841BD1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5A96-BFEF-48E6-8C6A-C8F252B9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2C95-4F53-48E7-B17C-D6CD795D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5E1-32D8-4194-9A8F-B0ED74BF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42C-E4E9-4A59-8674-20F36616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685-DCBA-4058-BC0A-12C64E1F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748-8CD1-4699-80D5-ECA97D8A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4EE-CF34-4C50-AB92-CB72A7FF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315-3F12-43C7-A1AD-11FF9902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04C-6565-4D7A-9529-8EF654ED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F227-7363-4BD0-ACD2-FE2B1B9F77A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0ADD-ABE9-47C7-BE33-96440857268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 rot="21015000">
            <a:off x="323640" y="980640"/>
            <a:ext cx="728496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rnd" w="381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Классный час</a:t>
            </a:r>
            <a:endParaRPr b="1" lang="en-US" sz="2400" spc="1" strike="noStrike">
              <a:ln cap="rnd" w="381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847440"/>
          </a:xfrm>
          <a:prstGeom prst="rect">
            <a:avLst/>
          </a:prstGeom>
          <a:gradFill rotWithShape="0">
            <a:gsLst>
              <a:gs pos="0">
                <a:srgbClr val="66ff99">
                  <a:alpha val="80392"/>
                </a:srgbClr>
              </a:gs>
              <a:gs pos="100000">
                <a:srgbClr val="ff0f87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Цель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d05aa"/>
              </a:buClr>
              <a:buSzPct val="65000"/>
              <a:buFont typeface="Wingding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05aa"/>
                </a:solidFill>
                <a:latin typeface="Tahoma"/>
              </a:rPr>
              <a:t>Усвоение учащимися принятых в обществе ценносте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SzPct val="65000"/>
              <a:buFont typeface="Wingding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99"/>
                </a:solidFill>
                <a:latin typeface="Tahoma"/>
              </a:rPr>
              <a:t>Развитие уникальности и субъектности ребе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26000" y="6078600"/>
            <a:ext cx="22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05aa"/>
                </a:solidFill>
                <a:latin typeface="Comic Sans MS"/>
              </a:rPr>
              <a:t>Традицио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5877000"/>
            <a:ext cx="29512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99"/>
                </a:solidFill>
                <a:latin typeface="Comic Sans MS"/>
              </a:rPr>
              <a:t>Личностно-ориентирова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gradFill rotWithShape="0">
            <a:gsLst>
              <a:gs pos="0">
                <a:srgbClr val="66ff99">
                  <a:alpha val="80392"/>
                </a:srgbClr>
              </a:gs>
              <a:gs pos="100000">
                <a:srgbClr val="ff0f87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Содержание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4321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05aa"/>
              </a:buClr>
              <a:buSzPct val="6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05aa"/>
                </a:solidFill>
                <a:latin typeface="Tahoma"/>
              </a:rPr>
              <a:t>Содержание классного часа определяет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педагог.</a:t>
            </a:r>
            <a:r>
              <a:rPr b="1" lang="ru-RU" sz="3200" spc="-1" strike="noStrike">
                <a:solidFill>
                  <a:srgbClr val="fd05aa"/>
                </a:solidFill>
                <a:latin typeface="Tahoma"/>
              </a:rPr>
              <a:t> Содержанием являются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социально-ценностные отнош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24000" y="1268280"/>
            <a:ext cx="5219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SzPct val="6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99"/>
                </a:solidFill>
                <a:latin typeface="Tahoma"/>
              </a:rPr>
              <a:t>Содержание является 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личностно-значимым.</a:t>
            </a:r>
            <a:r>
              <a:rPr b="1" lang="ru-RU" sz="3200" spc="-1" strike="noStrike">
                <a:solidFill>
                  <a:srgbClr val="00ff99"/>
                </a:solidFill>
                <a:latin typeface="Tahoma"/>
              </a:rPr>
              <a:t> В качестве содержания  - материал, необходимый для 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самостроительства, самоутверждения</a:t>
            </a:r>
            <a:r>
              <a:rPr b="1" lang="ru-RU" sz="3200" spc="-1" strike="noStrike">
                <a:solidFill>
                  <a:srgbClr val="00ff99"/>
                </a:solidFill>
                <a:latin typeface="Tahoma"/>
              </a:rPr>
              <a:t> личности реб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026000" y="6237360"/>
            <a:ext cx="22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05aa"/>
                </a:solidFill>
                <a:latin typeface="Comic Sans MS"/>
              </a:rPr>
              <a:t>Традицио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64000" y="6076800"/>
            <a:ext cx="29512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99"/>
                </a:solidFill>
                <a:latin typeface="Comic Sans MS"/>
              </a:rPr>
              <a:t>Личностно-ориентирова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351640" cy="936360"/>
          </a:xfrm>
          <a:prstGeom prst="rect">
            <a:avLst/>
          </a:prstGeom>
          <a:gradFill rotWithShape="0">
            <a:gsLst>
              <a:gs pos="0">
                <a:srgbClr val="66ff99">
                  <a:alpha val="80392"/>
                </a:srgbClr>
              </a:gs>
              <a:gs pos="100000">
                <a:srgbClr val="ff0f87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Организация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 деятель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3132000" cy="30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d05a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05aa"/>
                </a:solidFill>
                <a:latin typeface="Tahoma"/>
              </a:rPr>
              <a:t>Организацией </a:t>
            </a:r>
            <a:r>
              <a:rPr b="0" lang="ru-RU" sz="3200" spc="-1" strike="noStrike">
                <a:solidFill>
                  <a:srgbClr val="fd05aa"/>
                </a:solidFill>
                <a:latin typeface="Tahoma"/>
              </a:rPr>
              <a:t>деятельности занимаетс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d05aa"/>
                </a:solidFill>
                <a:latin typeface="Tahoma"/>
              </a:rPr>
              <a:t>педагог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32000" y="981000"/>
            <a:ext cx="6012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Tahoma"/>
              </a:rPr>
              <a:t>Учащиеся –</a:t>
            </a:r>
            <a:r>
              <a:rPr b="1" lang="ru-RU" sz="3200" spc="-1" strike="noStrike">
                <a:solidFill>
                  <a:srgbClr val="00ff99"/>
                </a:solidFill>
                <a:latin typeface="Tahoma"/>
              </a:rPr>
              <a:t> полноправные </a:t>
            </a:r>
            <a:r>
              <a:rPr b="0" lang="ru-RU" sz="3200" spc="-1" strike="noStrike">
                <a:solidFill>
                  <a:srgbClr val="00ff99"/>
                </a:solidFill>
                <a:latin typeface="Tahoma"/>
              </a:rPr>
              <a:t>организато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арактерн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Tahoma"/>
              </a:rPr>
              <a:t>Актуализация жизненного опы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Tahoma"/>
              </a:rPr>
              <a:t>проявление и развитие индивидуальности ребё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ff99"/>
                </a:solidFill>
                <a:latin typeface="Tahoma"/>
              </a:rPr>
              <a:t>Ситуации выбора и успех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Tahoma"/>
              </a:rPr>
              <a:t>Диал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21280" y="6093000"/>
            <a:ext cx="22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05aa"/>
                </a:solidFill>
                <a:latin typeface="Comic Sans MS"/>
              </a:rPr>
              <a:t>Традицио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35640" y="5877000"/>
            <a:ext cx="29512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99"/>
                </a:solidFill>
                <a:latin typeface="Comic Sans MS"/>
              </a:rPr>
              <a:t>Личностно-ориентирова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18320" cy="1295280"/>
          </a:xfrm>
          <a:prstGeom prst="rect">
            <a:avLst/>
          </a:prstGeom>
          <a:gradFill rotWithShape="0">
            <a:gsLst>
              <a:gs pos="0">
                <a:srgbClr val="66ff99">
                  <a:alpha val="80392"/>
                </a:srgbClr>
              </a:gs>
              <a:gs pos="100000">
                <a:srgbClr val="ff0f87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Ценностно-аналитический компонент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4464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d05a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05aa"/>
                </a:solidFill>
                <a:latin typeface="Tahoma"/>
              </a:rPr>
              <a:t>Ценность передаваемой информ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00720" y="1699920"/>
            <a:ext cx="42544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ff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99"/>
                </a:solidFill>
                <a:latin typeface="Tahoma"/>
              </a:rPr>
              <a:t>Проявление и обогащение жизненного опыта  ребё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026000" y="6078600"/>
            <a:ext cx="22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05aa"/>
                </a:solidFill>
                <a:latin typeface="Comic Sans MS"/>
              </a:rPr>
              <a:t>Традицио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64000" y="5877000"/>
            <a:ext cx="29512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99"/>
                </a:solidFill>
                <a:latin typeface="Comic Sans MS"/>
              </a:rPr>
              <a:t>Личностно-ориентирова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0f87">
                  <a:alpha val="60392"/>
                </a:srgbClr>
              </a:gs>
              <a:gs pos="100000">
                <a:srgbClr val="66ff99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00e4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84" dur="3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500" autoRev="1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,-103)"/>
                                      </p:to>
                                    </p:set>
                                    <p:set>
                                      <p:cBhvr>
                                        <p:cTn id="289" dur="500" autoRev="1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,-103)"/>
                                      </p:to>
                                    </p:set>
                                    <p:set>
                                      <p:cBhvr>
                                        <p:cTn id="290" dur="500" autoRev="1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2f7575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cc0000"/>
                </a:solidFill>
                <a:uFillTx/>
                <a:latin typeface="Comic Sans MS"/>
              </a:rPr>
              <a:t>Классный час</a:t>
            </a:r>
            <a:r>
              <a:rPr b="0" lang="ru-RU" sz="6000" spc="-1" strike="noStrike">
                <a:solidFill>
                  <a:srgbClr val="cc0000"/>
                </a:solidFill>
                <a:latin typeface="Comic Sans MS"/>
              </a:rPr>
              <a:t> – </a:t>
            </a:r>
            <a:r>
              <a:rPr b="0" lang="ru-RU" sz="6000" spc="-1" strike="noStrike">
                <a:solidFill>
                  <a:srgbClr val="ff0f87"/>
                </a:solidFill>
                <a:latin typeface="Comic Sans MS"/>
              </a:rPr>
              <a:t>это …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специально организованная ценностно-ориентационная деятельность, способствующая формированию у школьников системы отношений к окружающему мир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bc3"/>
              </a:gs>
              <a:gs pos="100000">
                <a:srgbClr val="ffcc66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3300"/>
                </a:solidFill>
                <a:uFillTx/>
                <a:latin typeface="Comic Sans MS"/>
              </a:rPr>
              <a:t>Функции классного час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росветительск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66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Ориентирующ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buClr>
                <a:srgbClr val="66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Направляющ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006600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Comic Sans MS"/>
              </a:rPr>
              <a:t>Методические направления формирования ценностного отношения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ff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cc"/>
                </a:solidFill>
                <a:latin typeface="Tahoma"/>
              </a:rPr>
              <a:t>Обнаружение ц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ffff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cc"/>
                </a:solidFill>
                <a:latin typeface="Tahoma"/>
              </a:rPr>
              <a:t>Предъявление ценности 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ff99"/>
                </a:solidFill>
                <a:latin typeface="Tahoma"/>
              </a:rPr>
              <a:t>«своём пленительном и глубоком значен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Нахождение формы взаимодействия с детьми, которые активизируют духовную деятельность по ценностному осмыслению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ffff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66"/>
                </a:solidFill>
                <a:latin typeface="Tahoma"/>
              </a:rPr>
              <a:t>Упражнение детей в направлении от «ЗНАЮ» к «УМЕЮ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ffff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Tahoma"/>
              </a:rPr>
              <a:t>Осмысление детьми своих связей с мир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51880" cy="15843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6699ff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ffff"/>
                </a:solidFill>
                <a:uFillTx/>
                <a:latin typeface="Comic Sans MS"/>
              </a:rPr>
              <a:t>Содержание классного часа определяют по следующим направлениям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99c"/>
                </a:solidFill>
                <a:latin typeface="Tahoma"/>
              </a:rPr>
              <a:t>Человек и его взаимоотнош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399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ahoma"/>
              </a:rPr>
              <a:t>Наука и позн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99c"/>
                </a:solidFill>
                <a:latin typeface="Tahoma"/>
              </a:rPr>
              <a:t>Прекрасное в жизни, в искусстве, в челове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f8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ahoma"/>
              </a:rPr>
              <a:t>Психологическая темат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99c"/>
                </a:solidFill>
                <a:latin typeface="Tahoma"/>
              </a:rPr>
              <a:t>Экологическая темат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з,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Чтение газетных и журнальных материа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Tahoma"/>
              </a:rPr>
              <a:t>Обзоры периодических изд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Анкетирование и анализ его результ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Беседа за круглым стол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суждение событий школьной жиз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ahoma"/>
              </a:rPr>
              <a:t>Встречи с произведениями искус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ff"/>
                </a:solidFill>
                <a:latin typeface="Tahoma"/>
              </a:rPr>
              <a:t>Размышление над известным суждением или афоризм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Классный час с элементами художественной деятельности уча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0"/>
            <a:ext cx="8424720" cy="1224000"/>
          </a:xfrm>
          <a:prstGeom prst="rect">
            <a:avLst/>
          </a:prstGeom>
          <a:gradFill rotWithShape="0">
            <a:gsLst>
              <a:gs pos="0">
                <a:srgbClr val="6699ff">
                  <a:alpha val="80392"/>
                </a:srgbClr>
              </a:gs>
              <a:gs pos="50000">
                <a:srgbClr val="31c73f">
                  <a:alpha val="80392"/>
                </a:srgbClr>
              </a:gs>
              <a:gs pos="100000">
                <a:srgbClr val="6699ff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Comic Sans MS"/>
              </a:rPr>
              <a:t>Методы и приемы проведения классного час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 rot="20700000">
            <a:off x="0" y="692280"/>
            <a:ext cx="7345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d05a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d05aa"/>
                </a:solidFill>
                <a:latin typeface="Arial Black"/>
              </a:rPr>
              <a:t>Традиционный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 rot="20700000">
            <a:off x="1263240" y="3799800"/>
            <a:ext cx="76294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d05a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99"/>
                </a:solidFill>
                <a:latin typeface="Arial Black"/>
              </a:rPr>
              <a:t>Личностно-ориентированны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 rot="20671800">
            <a:off x="3419640" y="2276280"/>
            <a:ext cx="2377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89000"/>
            <a:ext cx="9155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5dffd"/>
                </a:solidFill>
                <a:uFillTx/>
                <a:latin typeface="Comic Sans MS"/>
              </a:rPr>
              <a:t>Какой бывает классный час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99"/>
                </a:solidFill>
                <a:uFillTx/>
                <a:latin typeface="Comic Sans MS"/>
              </a:rPr>
              <a:t>Компоненты классного часа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0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е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рганизация деятель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енностно-аналитический компоне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dbbd71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rot="20472600">
            <a:off x="468000" y="16286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d05aa"/>
                </a:solidFill>
                <a:uFillTx/>
                <a:latin typeface="Comic Sans MS"/>
              </a:rPr>
              <a:t>Сравнение компонентов</a:t>
            </a:r>
            <a:r>
              <a:rPr b="1" lang="ru-RU" sz="4400" spc="-1" strike="noStrike" u="sng">
                <a:solidFill>
                  <a:srgbClr val="00ff00"/>
                </a:solidFill>
                <a:uFillTx/>
                <a:latin typeface="Comic Sans MS"/>
              </a:rPr>
              <a:t> традиционного </a:t>
            </a:r>
            <a:br>
              <a:rPr sz="4400"/>
            </a:br>
            <a:r>
              <a:rPr b="1" lang="ru-RU" sz="4400" spc="-1" strike="noStrike" u="sng">
                <a:solidFill>
                  <a:srgbClr val="00ff99"/>
                </a:solidFill>
                <a:uFillTx/>
                <a:latin typeface="Comic Sans MS"/>
              </a:rPr>
              <a:t>и </a:t>
            </a:r>
            <a:br>
              <a:rPr sz="4400"/>
            </a:br>
            <a:r>
              <a:rPr b="1" lang="ru-RU" sz="4400" spc="-1" strike="noStrike" u="sng">
                <a:solidFill>
                  <a:srgbClr val="fd05aa"/>
                </a:solidFill>
                <a:uFillTx/>
                <a:latin typeface="Comic Sans MS"/>
              </a:rPr>
              <a:t>личностно-ориентированного </a:t>
            </a:r>
            <a:br>
              <a:rPr sz="4400"/>
            </a:br>
            <a:r>
              <a:rPr b="1" lang="ru-RU" sz="4400" spc="-1" strike="noStrike" u="sng">
                <a:solidFill>
                  <a:srgbClr val="00ff99"/>
                </a:solidFill>
                <a:uFillTx/>
                <a:latin typeface="Comic Sans MS"/>
              </a:rPr>
              <a:t>классного час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sanovaII</cp:lastModifiedBy>
  <dcterms:modified xsi:type="dcterms:W3CDTF">2007-01-11T07:56:44Z</dcterms:modified>
  <cp:revision>9</cp:revision>
  <dc:subject/>
  <dc:title>PowerPoint Presentation</dc:title>
</cp:coreProperties>
</file>