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A491-DCCA-4DEE-9DC3-B93E5165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61D3-BC43-4D51-8A84-E5D1E1DF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D1821-E038-4AC5-AE4B-D26265A6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665E-5DC6-41B9-A9DC-97A6C832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2962-A854-4806-A501-E7A705FA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D2E4-3A82-44F1-A428-F270FA0D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E7F6-A2D3-40AC-A6DA-1086ABD9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10CC-5428-43AD-AC85-2E85AF0F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C143-5900-40A0-8B78-5B8BF357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A8A3-13FF-477F-A90E-76D4BEE8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61C6-DFB8-4EAF-AD12-4CBA4533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0A94D-95C0-4B82-989E-3D664095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46FA-3806-40CC-997D-28ED8DD5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2949-6F1F-4A3F-940F-4AF5E91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2596-07E0-488D-A801-4C04E164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A7DA-31CE-47F5-B4E4-8DBB67E8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5DCF-81A5-4D34-A762-D9E46E36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BD26-607D-4F8B-8978-63546EB5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2A98-69BB-43AD-9DC1-C79EE789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E6F6-4DD6-466F-A506-270E08BB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D439-15DB-433A-9708-176BD6DA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A297-7E3A-4D51-B317-2721905F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6096-4AFB-47FE-B0D4-04ABF9C5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07E3-E4BD-479E-BA06-472A4451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73CD-10B7-4B8E-9615-E4EF4EA865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DC6E-4873-41BF-88EE-91F870E230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Выбор образовательного маршрут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9 класс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алисты в области консуль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овые, налоговые, юридические консульт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сты по антикризисному у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сты по политическому консалтин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ультанты в области управления, системной интег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алисты в области промышле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ие производ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ен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ФОРМАЦИЯ О ПРОФЕССИЯХ, ПОЛЬЗУЮЩИХСЯ СПРОСОМ В ПЕРМСКОМ КРА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оэлектросвар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в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к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ро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мен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9144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же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овой аг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й рабо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й 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ЕССИИ, ПОЛЬЗУЮЩИЕСЯ СПРОСОМ В Г.ЧАЙК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мен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тука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арщик-газорез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сарь-ремон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итель автомобиля, автоб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рож, гардероб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з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2160" y="37335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ФЕССИИ, КОТОРЫЕ БУДУТ ПОПУЛЯРН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РЕЗ 5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5335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ко-математически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ественны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манитарны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равоохра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 и 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кетно-космическая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опасность жизнедеятельности и защита окружающе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5" descr="b41.gif"/>
          <p:cNvPicPr/>
          <p:nvPr/>
        </p:nvPicPr>
        <p:blipFill>
          <a:blip r:embed="rId1"/>
          <a:stretch/>
        </p:blipFill>
        <p:spPr>
          <a:xfrm>
            <a:off x="457200" y="609480"/>
            <a:ext cx="2979720" cy="19814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6" descr="c42.gif"/>
          <p:cNvPicPr/>
          <p:nvPr/>
        </p:nvPicPr>
        <p:blipFill>
          <a:blip r:embed="rId2"/>
          <a:stretch/>
        </p:blipFill>
        <p:spPr>
          <a:xfrm>
            <a:off x="3276720" y="1219320"/>
            <a:ext cx="2395440" cy="2998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ХОЧУ – МОГУ – НА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выбрать професс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7" descr="constr18.gif"/>
          <p:cNvPicPr/>
          <p:nvPr/>
        </p:nvPicPr>
        <p:blipFill>
          <a:blip r:embed="rId3"/>
          <a:stretch/>
        </p:blipFill>
        <p:spPr>
          <a:xfrm>
            <a:off x="6019920" y="685800"/>
            <a:ext cx="19047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ШИБКИ ПРИ ВЫБОРЕ 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5" descr="b41.gif"/>
          <p:cNvPicPr/>
          <p:nvPr/>
        </p:nvPicPr>
        <p:blipFill>
          <a:blip r:embed="rId1"/>
          <a:stretch/>
        </p:blipFill>
        <p:spPr>
          <a:xfrm>
            <a:off x="457200" y="609480"/>
            <a:ext cx="297972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6" descr="c42.gif"/>
          <p:cNvPicPr/>
          <p:nvPr/>
        </p:nvPicPr>
        <p:blipFill>
          <a:blip r:embed="rId2"/>
          <a:stretch/>
        </p:blipFill>
        <p:spPr>
          <a:xfrm>
            <a:off x="3276720" y="1219320"/>
            <a:ext cx="2395440" cy="2998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ХОЧУ – МОГУ – НА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выбрать професс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constr18.gif"/>
          <p:cNvPicPr/>
          <p:nvPr/>
        </p:nvPicPr>
        <p:blipFill>
          <a:blip r:embed="rId3"/>
          <a:stretch/>
        </p:blipFill>
        <p:spPr>
          <a:xfrm>
            <a:off x="6019920" y="685800"/>
            <a:ext cx="19047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знание мира професс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и непрерывно меняют свой прежний облик, нередко за старым названием скрывается  новый характер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убеждения в отношении престижности профессии, ориентация сразу на профессии высшей квалификации (менеджер, дипломат, переводчи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лечение только внешней стороной профессии (например, когда человек хочет стать юристом, потому что смотрит детектив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знани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мение разобраться в себе, в своих действительных склонностях неадекватная оценка своих способн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оценка своих физических возможностей, состояния своего здоровья при выборе профе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мение соотнести свои способности с требованиями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нание правил выбора проф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ождествление учебного предмета с профессией («Увлекаюсь географией - стану геологом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нос отношения к человеку на профессию («Буду, как мама - бухгалтером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профессии «за компанию» - неосознанная боязнь расстаться с привычным окруж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ИРОВАНИЕ ПРОФЕССИОНАЛЬНОГО БУДУЩ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5" descr="woman06.gif"/>
          <p:cNvPicPr/>
          <p:nvPr/>
        </p:nvPicPr>
        <p:blipFill>
          <a:blip r:embed="rId1"/>
          <a:stretch/>
        </p:blipFill>
        <p:spPr>
          <a:xfrm>
            <a:off x="6858000" y="3200400"/>
            <a:ext cx="2286000" cy="3041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шаг. Самонаблю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своих профессиональных интересов и скло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профессионально важных качеств, состояния здоровья,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шаг. Сбор и оценка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рофессии и содержани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возможностях трудо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ерспекти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редприят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5" descr="girl_book.gif"/>
          <p:cNvPicPr/>
          <p:nvPr/>
        </p:nvPicPr>
        <p:blipFill>
          <a:blip r:embed="rId1"/>
          <a:stretch/>
        </p:blipFill>
        <p:spPr>
          <a:xfrm>
            <a:off x="5791320" y="3733920"/>
            <a:ext cx="220968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5" descr="g09.gif"/>
          <p:cNvPicPr/>
          <p:nvPr/>
        </p:nvPicPr>
        <p:blipFill>
          <a:blip r:embed="rId1"/>
          <a:stretch/>
        </p:blipFill>
        <p:spPr>
          <a:xfrm>
            <a:off x="7162920" y="1752480"/>
            <a:ext cx="1552320" cy="2440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шаг. Принятие решения  и планирование достижения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вариантов (основной и запасн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возможностей каждого вари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ение решения с авторитетным челове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ТЕЛЬНАЯ КАРТА 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нее (полное)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й «Синт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мн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й образовательный центр для старше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5" descr="woman_teacher_blackboard_md_wht.gif"/>
          <p:cNvPicPr/>
          <p:nvPr/>
        </p:nvPicPr>
        <p:blipFill>
          <a:blip r:embed="rId1"/>
          <a:stretch/>
        </p:blipFill>
        <p:spPr>
          <a:xfrm>
            <a:off x="6172200" y="3962520"/>
            <a:ext cx="24433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фессиональное 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феры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–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– тех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– знаков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– художественный об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- при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йковский профессионально-педагогический коллед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ожник-ма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физ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(механизация с\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 (вычислительная техн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ст по социаль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5" descr="b104.gif"/>
          <p:cNvPicPr/>
          <p:nvPr/>
        </p:nvPicPr>
        <p:blipFill>
          <a:blip r:embed="rId1"/>
          <a:stretch/>
        </p:blipFill>
        <p:spPr>
          <a:xfrm>
            <a:off x="6858000" y="1143000"/>
            <a:ext cx="16765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йковский профессионально-педагогический коллед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меха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я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ь художественных р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вод-овоще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ля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мен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инист экскав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7" descr="constr40.gif"/>
          <p:cNvPicPr/>
          <p:nvPr/>
        </p:nvPicPr>
        <p:blipFill>
          <a:blip r:embed="rId1"/>
          <a:stretch/>
        </p:blipFill>
        <p:spPr>
          <a:xfrm>
            <a:off x="5486400" y="36576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йковский техникум промышленных технологий и упр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ст по рекла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авец, контролер-касс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икмах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ар, конди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3" descr="boy18.gif"/>
          <p:cNvPicPr/>
          <p:nvPr/>
        </p:nvPicPr>
        <p:blipFill>
          <a:blip r:embed="rId1"/>
          <a:stretch/>
        </p:blipFill>
        <p:spPr>
          <a:xfrm>
            <a:off x="6629400" y="2994120"/>
            <a:ext cx="22860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лище №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паратчик-оп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арщ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мон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с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карь-универс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ар, конди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остро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о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та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3" descr="b75.gif"/>
          <p:cNvPicPr/>
          <p:nvPr/>
        </p:nvPicPr>
        <p:blipFill>
          <a:blip r:embed="rId1"/>
          <a:stretch/>
        </p:blipFill>
        <p:spPr>
          <a:xfrm>
            <a:off x="5410080" y="2819520"/>
            <a:ext cx="276696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дицинский колле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13" descr="3.gif"/>
          <p:cNvPicPr/>
          <p:nvPr/>
        </p:nvPicPr>
        <p:blipFill>
          <a:blip r:embed="rId1"/>
          <a:stretch/>
        </p:blipFill>
        <p:spPr>
          <a:xfrm>
            <a:off x="380880" y="2824200"/>
            <a:ext cx="2934000" cy="40338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4" descr="24.gif"/>
          <p:cNvPicPr/>
          <p:nvPr/>
        </p:nvPicPr>
        <p:blipFill>
          <a:blip r:embed="rId2"/>
          <a:stretch/>
        </p:blipFill>
        <p:spPr>
          <a:xfrm>
            <a:off x="6629400" y="380880"/>
            <a:ext cx="1523880" cy="3048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цинская се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2160" y="37335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ЕТЫ ВЫПУСКНИКАМ, ПОСТУПАЮЩИМ В УЧЕБНЫЕ ЗА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несколько нужных учебных за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етить эти учебные за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ть свои 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ь, в какое заведение поступ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умать запасные вари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рать варианты подготовки к экзаме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33526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ЛЬ РОДИТЕЛЕЙ В ПРОФЕССИОНАЛЬНОМ САМООПРЕДЕЛЕНИИ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комство с миром професс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щь в оценке профессионально важных качеств, состояния здоровья,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щь в заполн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подрост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го выб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5" descr="b46.gif"/>
          <p:cNvPicPr/>
          <p:nvPr/>
        </p:nvPicPr>
        <p:blipFill>
          <a:blip r:embed="rId1"/>
          <a:stretch/>
        </p:blipFill>
        <p:spPr>
          <a:xfrm>
            <a:off x="5715000" y="3048120"/>
            <a:ext cx="23623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\\192.168.1.1\документы\Обменник\Саламатова\Профессии\opr01Q48.gif"/>
          <p:cNvPicPr/>
          <p:nvPr/>
        </p:nvPicPr>
        <p:blipFill>
          <a:blip r:embed="rId1"/>
          <a:stretch/>
        </p:blipFill>
        <p:spPr>
          <a:xfrm>
            <a:off x="2286000" y="1447920"/>
            <a:ext cx="464832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5" descr="b41.gif"/>
          <p:cNvPicPr/>
          <p:nvPr/>
        </p:nvPicPr>
        <p:blipFill>
          <a:blip r:embed="rId1"/>
          <a:stretch/>
        </p:blipFill>
        <p:spPr>
          <a:xfrm>
            <a:off x="457200" y="609480"/>
            <a:ext cx="2979720" cy="1981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c42.gif"/>
          <p:cNvPicPr/>
          <p:nvPr/>
        </p:nvPicPr>
        <p:blipFill>
          <a:blip r:embed="rId2"/>
          <a:stretch/>
        </p:blipFill>
        <p:spPr>
          <a:xfrm>
            <a:off x="3276720" y="1219320"/>
            <a:ext cx="2395440" cy="2998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ХОЧУ – МОГУ – НА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выбрать професс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7" descr="constr18.gif"/>
          <p:cNvPicPr/>
          <p:nvPr/>
        </p:nvPicPr>
        <p:blipFill>
          <a:blip r:embed="rId3"/>
          <a:stretch/>
        </p:blipFill>
        <p:spPr>
          <a:xfrm>
            <a:off x="6019920" y="685800"/>
            <a:ext cx="19047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ЕЦИАЛИСТЫ, НАИБОЛЕЕ ВОСТРЕБОВАННЫЕ НА РЫНКЕ ТР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алисты в области финан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е дире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ые бухгалт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сты по привлечению инвестиций, оптимизации финансовых пот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алисты в области клиентских отно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еджеры по привлечению к работе с клиен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еджеры по продажам продукции 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алисты в области рекламы и продвижения товаров и усл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джмейк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енд-менедж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оут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алисты в области транспортировки гру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еджеры складского хозя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ламатоваТВ</cp:lastModifiedBy>
  <dcterms:modified xsi:type="dcterms:W3CDTF">2010-02-16T07:20:3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