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3EE2-89B3-45ED-93C8-32558504C0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8C76-B6FF-4A51-BDEB-2B9A0A239E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D1CA-946F-49E0-9AD7-714739764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C6F7-05C1-4B52-8453-2A69299B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62F4-FC64-4643-B97C-47102B09F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7842-4B68-45C1-8BCA-ADD3E493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E987-12A3-41CF-8DA9-306B3776C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CFC9-621B-40E8-BCFD-3C9C2964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8320-E30B-4C43-9754-DA3D41B9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9340-FDFA-439C-A6E0-E6A3CB79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6894-C400-40CE-8308-B92E1AFB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E44E-FFB6-4DF6-B0F0-0F85E79C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4667-805D-4947-A8C5-4ECDF4C2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DDBA-892D-4D83-B1F7-2D62F212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3470-0D23-46DD-89CB-041F3A6D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FE4E-FCA8-4B62-85A4-BBB0670F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1E65-B5C5-48DF-BDAA-92EC5399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C694-0AF1-4BEA-B226-C1B6FF248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E763-09D9-4242-B607-497E450FE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54688-5DB5-4389-B739-AF8CBE8E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667DF-8D27-4E52-B02E-50B3F1CF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FDFD6-182B-4DAA-8D59-72189E4F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3647D-CCF7-4B18-8F3C-F6558DEF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BA806-38D0-4488-9BA1-B0317C14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A455-7532-4138-9A1C-4539EDCB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67242-D5BE-4481-9A26-4FAC84BD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F3818-B18E-4049-9A41-34E09B21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C8EB4-0507-413A-AAF6-1FECA84A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AB1E1-E56C-4B1C-B084-BDBD565D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0E538-8E2F-4334-BE4A-25AA7078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E8802-F899-4945-ADED-81C0ABA0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52BC8-AD81-4D62-BCB6-E53DE9861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99299-20AA-47FA-B985-FB063979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F2FC9-60E8-4434-9729-EE5D72DA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0A23C-71C9-4113-B569-9E8338FA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BB5F-FF93-466F-81D5-746F4206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F99DC-8663-4B32-8F4D-859FFADD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86203-0CA2-4B8C-9705-B9BD933F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D253E-43DB-43F7-BEC3-CFBF44E0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1D9C5-231A-491D-94A5-9EE97C19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E3071-8D32-4DF3-A161-582B7D66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6402D-37CF-4EBA-A09A-E0C02467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EA60E-C33C-4AE2-8C7C-A17B8C99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CCA98-875A-4612-898F-ECB07166D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AB588-DBFA-4514-9ED8-C57BF2636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2B988-21F5-4589-8A28-AFDC23D22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CB36-5F68-4418-A67B-FC6E56CD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035DC-B5C4-4DA6-B2B4-B0BF560F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A712C-3A30-4BA3-A7B9-6A61AEA1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A2FFC-6F4E-486D-9EF9-CC72ACE4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A0B6A-A979-45FB-8572-69824772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2C2F5-6B41-41FD-BBED-D13C7C83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B4255-E8B0-4E8E-99B0-D87013E0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880B6-E94F-42C2-92E0-A240E49D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7CF3C-3914-4E3F-AA98-CA5AB1E5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F15D6-0E42-46B8-BA7C-E9BFF317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1F734-4889-49D8-9C68-D25AD8C6E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98E4-A978-4142-AF26-2533C6DF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2C222-1484-4D58-91B3-ADC5D1F7D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0A002-F5D9-4703-8FC5-69A694EAF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36206-64A9-4C5A-9F97-966C9B19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7B569-ABE6-4FBA-890C-F42488A0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D244E-96B4-45E0-9AA1-FC2E8748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2C1D2-C189-41D2-8D7F-BF1661E4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CF71D-D3FD-4BA6-8774-9E0BBE37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AA71D-6F6D-49AF-A6AB-C39AF97E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70E73-E5CB-478D-9CF1-5A751069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54EB2-B9D6-4538-8AB0-668ABB24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9D2F-3CDC-440B-AC88-50E25FE6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D1503-3606-4583-9FA2-A5CBE745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82C99-8BE2-45B2-A3F2-00ACC077E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5740E-4D87-4731-9991-34207CD37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3D1CD-7390-4996-BC9A-70327D49E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27391-F7B1-4C6D-A2F1-EBAAC616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9ACED-0B83-48E7-A0EC-D70BF62A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696EB-91F4-4A57-888A-504F5F25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68974-1208-4702-B47E-AD8DBB81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89594-95C2-4317-96CA-3383E11E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58D29-3672-4EEC-A4ED-DF21986E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CCF2-0437-4C5C-A35B-045529C7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10860-8CA1-4E24-A040-B21D7721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44D79-FB36-4C20-83AD-D951ADF5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C35D6-FEAC-4655-A2D5-8DA8B4DD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37A00-D91B-4CB2-8083-5AF8A081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9156C-879D-438C-AA7E-95B8276F5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CBDE-4EAF-476D-817E-0BA47DF9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4638-8217-44B8-A8B0-31D89F74DE3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1746-5CC9-4AB8-BE74-6CFEFF2EB86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B731-1231-4279-928B-47563D95596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61D2-CAD6-4E75-8E4C-856F4D9D553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B2C2-C8CA-4BE7-9110-3AE66E28C8E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F881-D004-4675-8813-21619DA7321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8184-AEEA-46B6-B909-107C06A3CCC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18960" y="137160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Родители – заказчики образовательных услуг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47560" y="3276720"/>
            <a:ext cx="740700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Школа родительского актив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29.10.2009 г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ЕЯТЕЛЬНОСТЬ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согласовывает по представлению директора Школы бюджетную заявку, смету бюджетного финансирования и смету расходования средств, полученных Школой от уставной, приносящей доход деятельности и из внебюджетных источников;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участвует в принятии решений о распределении средств стимулирующей части фонда оплаты труда Школы; 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согласовывает решение Школы о сдаче в аренду закрепленных за ней объектов  собственности;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ежегодно не позднее 1 ноября представляет Учредителю и общественности доклад о состоянии дел в Школе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ЛАССНЫЕ РОДИТЕЛЬСКИЕ КОМИТЕТЫ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исполнительные органы родителей класса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ОСТАВ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остойные  и уважаемые матери  и отцы (3-5 человек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ЕЯТЕЛЬНОСТЬ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рганизация совместных дел родителей и детей; спортивные соревнования, праздники, туристические походы, огоньки, конкурсы, субботники, экскурсии, турниры знатоков, ярмарки – распродажи  семейных поделок, выставка «Мир наших увлечений», общественный смотр знаний и т.д.  Родительский актив занимается организацией школьных каникул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оздание банка данных родительских ресурсов по организации совместной деятельности родителей и детей осуществляется через опрос, анкетирование, индивидуальные собеседования с родителями. Определяются возможности каждой семьи и материальной, финансовой, практической помощи классу, школе, а также выявляются административные, юридические, информационные,  интеллектуальные и прочие ресурсы семьи. Данные заносятся в картотеку родительских резервов и возможностей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ЕЯТЕЛЬНОСТЬ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294920"/>
            <a:ext cx="7499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Распространение лучшего опыта семейного воспитания. Проводится через родительские собрания, круглые столы, родительский лекторий, читательские конференции, вечера вопросов и ответов, диспуты, дискуссии, уроки семейной любви и др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оздание и сохранение традиций детско-взрослого сообщества. Родительский комитет совместно со взрослыми и детьми продумывает начало и окончание учебного года, вводит в традиции презентацию новых семей класса, имеют свою особую систему поощрения учащихся, родителей, учителей. Традициями могут стать и ритуал зажжения свечей перед началом общего дела, проведение семейного совета родителей и детей по решению конкретной проблемы класса, ведение летописи школьных лет, переходные семейные призы, классная доска Почета и др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существляет подготовку классных родительских собраний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АВА РОДИТЕЛЕЙ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ыбирать форму получения образования, образовательное учреждение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защищать законные права и интересы детей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для этого необходимо обратиться с письменным заявлением к директору Школы, который обязан в установленный законом срок (не позднее чем через месяц) дать письменный ответ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в случае конфликта между родителем (законным представителем) и учителем по поводу объективности выставленной оценки, приказом директора Школы создается независимая комиссия специалистов-предметников, которая проверяет знания обучающегося и выставляет соответствующую оценку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исутствовать на заседании Педагогического совета Школы и принимать участие в обсуждении в случае, когда разбирается вопрос об успеваемости и поведении их ребенка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частвовать в управлении Школой, т.е. избирать и быть избранным в Попечительский совет и Управляющий совет, принимать участие и выражать свое мнение на общешкольных и классных родительских собраниях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АВА РОДИТЕЛЕЙ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ри обучении ребенка в семье, на любом этапе обучения продолжить его образование в Школе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знакомиться с ходом и содержанием образовательного процесса, с оценками успеваемости обучающихся. С оценками успеваемости обучающегося родителей (законных представителей) знакомит классный руководитель в письменной или устной форме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осещать уроки в классе, где обучается ребенок, с разрешения директора Школы или заместителя директора по учебно-воспитательной работе и согласия учителя, ведущего урок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знакомиться с настоящим Уставом и другими документами, регламентирующими организацию образовательного процесса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осещать Школу и беседовать с педагогами во внеурочное время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БЯЗАННОСТИ РОДИТЕЛЕЙ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434960" y="1447920"/>
            <a:ext cx="7499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обеспечить  получение детьми основного общего образования и создать  условия для получения ими среднего (полного) общего образования;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нести ответственность за их воспитание;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нести ответственность за ликвидацию обучающимся академической задолженности в течение учебного года в случае его перевода в следующий класс «условно»;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выполнять Устав Школы;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посещать проводимые Школой родительские собрания;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своевременно ставить в известность классного руководителя о возможном отсутствии или болезни своего ребенка.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БРАЗОВАТЕЛЬНЫЕ УСЛУГИ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МОУ «СОШ№4»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БЩЕЕ ОБРАЗОВАНИЕ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ервая ступень – начальное общее образование;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торая ступень – основное общее образование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ретья ступень – среднее (полное) общее образование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УПРАВЛЕНИЕ ШКОЛОЙ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66320" y="1143000"/>
            <a:ext cx="7867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Прямоугольник 3"/>
          <p:cNvSpPr/>
          <p:nvPr/>
        </p:nvSpPr>
        <p:spPr>
          <a:xfrm>
            <a:off x="1981080" y="1295280"/>
            <a:ext cx="3353040" cy="60984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КОНФЕ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5"/>
          <p:cNvSpPr/>
          <p:nvPr/>
        </p:nvSpPr>
        <p:spPr>
          <a:xfrm>
            <a:off x="1981080" y="2209680"/>
            <a:ext cx="3353040" cy="6858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УПРАВЛЯЮЩИЙ СО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6"/>
          <p:cNvSpPr/>
          <p:nvPr/>
        </p:nvSpPr>
        <p:spPr>
          <a:xfrm>
            <a:off x="1066680" y="3276720"/>
            <a:ext cx="2590920" cy="9144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ПЕДАГОГИЧЕСКИЙ СО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7"/>
          <p:cNvSpPr/>
          <p:nvPr/>
        </p:nvSpPr>
        <p:spPr>
          <a:xfrm>
            <a:off x="1066680" y="4572000"/>
            <a:ext cx="2590920" cy="83808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МЕТОДИЧЕСКИЙ СО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8"/>
          <p:cNvSpPr/>
          <p:nvPr/>
        </p:nvSpPr>
        <p:spPr>
          <a:xfrm>
            <a:off x="3809880" y="3276720"/>
            <a:ext cx="2590920" cy="12189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КЛАССНЫЕ РОДИТЕЛЬСКИЕ КОМИТЕ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9"/>
          <p:cNvSpPr/>
          <p:nvPr/>
        </p:nvSpPr>
        <p:spPr>
          <a:xfrm>
            <a:off x="3809880" y="5562720"/>
            <a:ext cx="2590920" cy="914400"/>
          </a:xfrm>
          <a:prstGeom prst="rect">
            <a:avLst/>
          </a:prstGeom>
          <a:solidFill>
            <a:srgbClr val="92d05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РОДИТЕЛЬСКИЙ АКТИВ 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10"/>
          <p:cNvSpPr/>
          <p:nvPr/>
        </p:nvSpPr>
        <p:spPr>
          <a:xfrm>
            <a:off x="5562720" y="1752480"/>
            <a:ext cx="3352680" cy="60984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ДИРЕ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11"/>
          <p:cNvSpPr/>
          <p:nvPr/>
        </p:nvSpPr>
        <p:spPr>
          <a:xfrm>
            <a:off x="6553080" y="3276720"/>
            <a:ext cx="2362320" cy="9144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rbel"/>
              </a:rPr>
              <a:t>СОВЕТ СТАРШЕКЛАСС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12"/>
          <p:cNvSpPr/>
          <p:nvPr/>
        </p:nvSpPr>
        <p:spPr>
          <a:xfrm>
            <a:off x="6553080" y="4343400"/>
            <a:ext cx="2362320" cy="9907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АКТИВЫ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ервая ступень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разовательные программы (Занков Л.В., «Школа -2100»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руппы продленного дня (1 кл.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акультатив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частие в интеллектуальных и творческих конкурсах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неклассная деятельность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етний оздоровительный отдых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торая ступень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частие в интеллектуальных и творческих конкурсах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акультатив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етняя  занятость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неклассная деятельность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едпрофильная подготовка (курсы по выбору, ориентационные курсы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Третья ступень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фильное обучение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лективные курс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неклассная деятельность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етняя занятость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частие в творческих и интеллектуальных  конкурсах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ФОРМЫ ОБУЧЕНИЯ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чна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кстерна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ля детей с ограниченными возможностями – обучение на дому (медицинское заключение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оциально-психолого-педагогическое сопровождение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ятельность  психолог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ятельность  социального педагог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сихолого-медико-педагогический консилиум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вет профилактики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учение и просвещение родителей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бразовательные услуги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льзование информационными образовательными ресурсами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льзование библиотечными ресурсами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латные дополнительные образовательные услуги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Перечень платных дополнительных образовательных услуг: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учение по дополнительным образовательным программам различной  направленности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еподавание специальных курсов и циклов дисциплин сверх  часов и сверх программ по данной  дисциплине, предусмотренной учебным  планом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епетиторство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азличные  курсы (по  подготовке к  поступлению в  различные  учебные  заведения, по  изучению  иностранных  языков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здание групп по адаптации детей дошкольного возраста к  условиям школьной жизни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КОНФЕРЕНЦИЯ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447560" y="2286000"/>
            <a:ext cx="740700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ВЫСШИЙ ОРГАН САМОУПРАВЛЕНИЯ ШКОЛОЙ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ОСТАВ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чащиеся   8-11-х классов (по 1 человеку из класса)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чителя и другие работники Школы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одители (законные представители) обучающихс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ЕЯТЕЛЬНОСТЬ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тверждает основные направления развития Школы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ссматривает и принимает Устав Школы, изменения и дополнения, вносимые в него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носит на согласование Учредителю новую редакцию Устава, изменения и дополнения в Устав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УПРАВЛЯЮЩИЙ СОВЕТ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ВЫСШИЙ ОРГАН САМОУПРАВЛЕНИЯ В ПЕРИОД МЕЖДУ КОНФЕРЕНЦИЯМ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ОСТАВ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одители (11 человек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чащиеся (3 человека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едагоги (6 человек, в т.ч. директор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едставитель УО и ПО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ЕЯТЕЛЬНОСТЬ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участвует в разработке Устава Школы, изменений и дополнений к нему для  последующего принятия  на Конференции;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огласовывает компонент общеобразовательного учреждения государственного  стандарта общего образования (по представлению директора после одобрения Педагогическим советом);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разрабатывает и принимает локальные акты Школы;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огласовывает концепцию (план, программу) развития Школы, основные направления работы Школы на год;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ЕЯТЕЛЬНОСТЬ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920"/>
            <a:ext cx="7499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устанавливает режим работы Школы, в том числе продолжительность учебной недели (пятидневная или шестидневная), время начала и</a:t>
            </a: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окончания занятий; принимает решение о введении (отмене) единой формы одежды для обучающихся и педагогических работников;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совместно с Педагогическим советом принимает решение об исключении обучающегося из школы;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содействует  привлечению  внебюджетных средств для обеспечения деятельности и развития Школы;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утверждает отчет директора Школы по итогам учебного и финансового года;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осуществляет контроль за здоровыми и безопасными условиями обучения;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ламатоваТВ</cp:lastModifiedBy>
  <dcterms:modified xsi:type="dcterms:W3CDTF">2009-10-29T11:25:31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