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15.png" ContentType="image/png"/>
  <Override PartName="/ppt/media/image19.gif" ContentType="image/gif"/>
  <Override PartName="/ppt/media/image1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6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7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1DB-CD24-4D67-B3D1-EBFBFE9D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245-33DD-4D67-A88F-56ED383A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646-4C09-44C3-AA16-49CBD471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5C3-6A62-4D94-AE91-BE725097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DFDF-1FF8-43D9-92E3-2B666529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909E-1FAE-4B7B-83C3-B476A10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F006-137A-484E-8DFD-87750BAA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C83-F9D1-4E1D-A2B8-1E82BB7E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7E65-BA35-4D8C-B0C3-6CE393D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296-FECF-4294-8B70-75A3D518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463B-85A1-40AF-8589-B32881B7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F57-515E-4C5E-B707-A21946D5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E5F8-5CF9-40CC-9535-867B0401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DBA6-7484-487C-A4E5-C2CC398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244-7F06-4F1A-A588-F0289F1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75D5-7978-46C7-BCE6-06818A10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EE56-73B4-486E-BD10-CAD9B9AF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104A-96C8-4B14-9185-CAC4B069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BF27-3D67-4226-8CA9-465971BE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9195C-E84A-4AEE-A937-16281CDE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B2F6-8663-43A0-B14E-77F51E09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7B65-649F-4544-8114-624868FF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A03-0EA8-40F4-A12F-97D7220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0227-7B66-46A6-B7D1-10E43F8D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5BEF-C807-48FF-B8CF-8BB41E5C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64B07-60F5-4FE0-A447-B01FC18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7EB2-45BF-44E9-BED3-89BC9C9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E886-5075-4CC2-8457-2DAE02A9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4706-B18F-4746-9F70-7DD8D69B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EBB7-75D4-4D0A-8395-38995A5C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B53E-3ADB-4422-B04A-1C91AC54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77B3-90B2-46F6-9FD9-0EEAEFB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158C-E33F-414F-81A8-34CDD1C4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967-D20C-497B-84BE-0BCFB6FF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8DE0-99C4-44D0-8165-659DD2F9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0846-8D87-4BA4-A162-3D81D0AC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625E-C165-4D77-8706-C3B2C68A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7C98-2894-4A41-BA10-CB7B8B1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A01D-5501-4179-B3F3-1D367628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C4E3-A764-4C7E-ABD5-4639F22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56B2-8D80-40CC-86D5-B5535C60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2CD3-4EB8-4FA5-9A19-28580145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EB30-3BD1-4C4B-B4C3-91317A90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C732-D7AC-4ADF-AF8E-1B6DBFDC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931-3553-4F25-B8B0-B0B97C53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0E5E-C69C-481D-996A-85BDD49D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C7825-FB7F-4217-8417-DE508026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E8FA-6699-4DF7-8C66-0B5616B6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5515-B22B-4EB9-8A93-E115FA3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97157-2F79-4A86-A387-71BB4310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4987-D121-4FE6-96AB-DA5A80BF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99E7-F836-4C10-B2CD-BBECAC7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27A3A-FE77-41A3-A860-FE1052A7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B991-61F1-4BA4-9325-4A60655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EC43-6BA9-40D2-AC24-8C3DD9E5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268-9A94-46CB-9237-3E703D4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69807-4C71-4C99-86B2-57B8A10B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AC70-FC75-4282-99A2-F9E37843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4931-2032-4E74-806E-89A8C59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5B3C-D7C7-4395-9F52-A232448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2B853-5340-4631-9083-6098F8F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B896-46DB-4061-BEF6-0E9AF84A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E428-A6D4-40AC-A3D8-42A81A8C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DB81-5667-44EA-9379-66E2903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18DD-D7B0-4DB7-AB98-E4D873F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CB47-6B81-4916-9B46-7A9188B2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058-5C7E-4F78-99B8-F101219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F212A-C279-4016-974E-A145E5E8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D7E9-C4CD-4E3D-9CEE-69162B64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7213-95DB-4873-9A60-67396F76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8FCC6-82C6-4954-B7AB-98C126DD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10250-DA72-4CF2-85DA-F62C239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A5038-5474-45A5-A969-BAFB45D8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9F37-0895-4943-9741-2819B03E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447C7-B7D2-4965-836C-E1C08F92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D9FF6-17A5-4C2F-8C1C-F894EA26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0F33-32C6-44B6-829B-E4031DA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A96-A7CB-420F-98E1-370BA404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76CEE-83F4-43B8-86A2-C5BEAB2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7F8C-6384-4681-9666-D16163D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D606-8BFC-40F6-9B1D-B85BB879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7014-2DAE-42F2-A922-784331C0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85D49-F6E0-4CA8-9AE2-570C6FFB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4F0-F3A0-4EFC-8360-03E37485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77A-7B12-48B6-B6B6-C05FCF9B3F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D46-D91E-4444-A139-38BA3A3B123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115F-C474-447F-80D0-934C76AFC1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2BA4-7604-4878-901C-30E1C82148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C928-2C83-4BF4-9814-032001EC02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59C9-63C8-4415-8FB4-FA2D472F13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088E-3B46-44CE-B4BE-98679852D7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.zamri.ru/avgustin/13822_dumu_dumaet_marina_fae9a_51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0/a8/a64f4a7259ff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ЕДПРОФИЛЬНАЯ ПОДГОТОВКА УЧАЩИХСЯ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Родительское собрание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в 8 класс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формационная работа и профильная ориентаци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66320" y="148104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ные часы - 9 час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ые мероприятия - 3 ча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по формированию портфолио  -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часа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с родителями - 2 час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4" descr="\\192.168.1.1\документы\Обменник\Саламатова\Профессии\opr01Q48.gif"/>
          <p:cNvPicPr/>
          <p:nvPr/>
        </p:nvPicPr>
        <p:blipFill>
          <a:blip r:embed="rId1"/>
          <a:stretch/>
        </p:blipFill>
        <p:spPr>
          <a:xfrm>
            <a:off x="6019920" y="4330800"/>
            <a:ext cx="2438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урсы по выбору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90720" y="1481040"/>
            <a:ext cx="76960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втомобиль как продукт инженерии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Я – организатор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мпьютерная графика ( 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спитатель д\с 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й дом (строитель) (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вроотделк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изнес-школ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дизайна одежды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журналистики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Юридическая деятельность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зайн офисных и жилых помещений (12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вар, кондит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давец, контролер – кассир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рикмах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4" descr="\\192.168.1.1\документы\Обменник\Саламатова\Профессии\203.gif"/>
          <p:cNvPicPr/>
          <p:nvPr/>
        </p:nvPicPr>
        <p:blipFill>
          <a:blip r:embed="rId1"/>
          <a:stretch/>
        </p:blipFill>
        <p:spPr>
          <a:xfrm>
            <a:off x="6324480" y="2133720"/>
            <a:ext cx="171468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4" descr="SCHOOLG.WMF"/>
          <p:cNvPicPr/>
          <p:nvPr/>
        </p:nvPicPr>
        <p:blipFill>
          <a:blip r:embed="rId1"/>
          <a:stretch/>
        </p:blipFill>
        <p:spPr>
          <a:xfrm>
            <a:off x="0" y="228600"/>
            <a:ext cx="2335320" cy="31669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жидаемые результат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ознание  учащимися необходимости      сделать  выбор, желание попробовать себя в различных видах деятельност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владение  информацией о возможностях дальнейшего образования (уровни, виды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владение технологией «портфолио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формирование родителей о целях и содержании предпрофильной подготовки учащихс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ЕДПРОФИЛЬНАЯ ПОДГОТОВКА В 9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не менее 80 часов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SOLDIER1.WMF"/>
          <p:cNvPicPr/>
          <p:nvPr/>
        </p:nvPicPr>
        <p:blipFill>
          <a:blip r:embed="rId1"/>
          <a:stretch/>
        </p:blipFill>
        <p:spPr>
          <a:xfrm>
            <a:off x="7086600" y="3048120"/>
            <a:ext cx="1906560" cy="38098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формационная работ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ссные часы - 9 часов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ые мероприятия - 4 часа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по формированию портфолио - 3 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с родителями - 2 ча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фильная ориентац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Я и моя профессия» - 17,5 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Рисунок 5" descr="53.gif"/>
          <p:cNvPicPr/>
          <p:nvPr/>
        </p:nvPicPr>
        <p:blipFill>
          <a:blip r:embed="rId1"/>
          <a:stretch/>
        </p:blipFill>
        <p:spPr>
          <a:xfrm>
            <a:off x="6324480" y="2590920"/>
            <a:ext cx="18860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4977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урсы по выбору</a:t>
            </a:r>
            <a:br>
              <a:rPr sz="39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едметны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Говорим и пишем правильно» - 17,5 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Вопросы русского языка за рамками школьного учебника» - 17, 5 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Избранные вопросы математики» -17, 5 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с «Научно-исследовательская деятельность» - 17,5 ч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Рисунок 3" descr="29.gif"/>
          <p:cNvPicPr/>
          <p:nvPr/>
        </p:nvPicPr>
        <p:blipFill>
          <a:blip r:embed="rId1"/>
          <a:stretch/>
        </p:blipFill>
        <p:spPr>
          <a:xfrm>
            <a:off x="6705720" y="4800600"/>
            <a:ext cx="21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урсы по выбору</a:t>
            </a:r>
            <a:br>
              <a:rPr sz="39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риентационны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142640" y="1480680"/>
            <a:ext cx="7543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втомобиль как продукт инженерии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Я – организатор (6 ч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мпьютерная графика ( 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спитатель д\с 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й дом (строитель) (6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вроотделк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изнес-школа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дизайна одежды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новы журналистики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Юридическая деятельность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зайн офисных и жилых помещений (12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вар, кондит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давец, контролер – кассир (12 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рикмахер (12ч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4" descr="\\192.168.1.1\документы\Обменник\Саламатова\Профессии\198.gif"/>
          <p:cNvPicPr/>
          <p:nvPr/>
        </p:nvPicPr>
        <p:blipFill>
          <a:blip r:embed="rId1"/>
          <a:stretch/>
        </p:blipFill>
        <p:spPr>
          <a:xfrm>
            <a:off x="6400800" y="2514600"/>
            <a:ext cx="1981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жидаемый результа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учащимися своей образовательной траектории после окончания 9 класс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владение учащимися технологией «портфоли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5" descr="http://im2-tub.yandex.net/i?id=53302469&amp;tov=2"/>
          <p:cNvPicPr/>
          <p:nvPr/>
        </p:nvPicPr>
        <p:blipFill>
          <a:blip r:embed="rId1"/>
          <a:stretch/>
        </p:blipFill>
        <p:spPr>
          <a:xfrm>
            <a:off x="4952880" y="3584520"/>
            <a:ext cx="3657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ЗАЧЕТНАЯ КНИЖКА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ащихся 8-9 классов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КЕМ БЫТЬ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2" name="Picture 2" descr="Картинка 14 из 480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2004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066680" y="914400"/>
          <a:ext cx="6772320" cy="4214880"/>
        </p:xfrm>
        <a:graphic>
          <a:graphicData uri="http://schemas.openxmlformats.org/drawingml/2006/table">
            <a:tbl>
              <a:tblPr/>
              <a:tblGrid>
                <a:gridCol w="6772320"/>
              </a:tblGrid>
              <a:tr h="330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ЧЕТНАЯ КНИЖ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едпрофильной подготов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Чайков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523880" y="1295280"/>
          <a:ext cx="6467760" cy="4276800"/>
        </p:xfrm>
        <a:graphic>
          <a:graphicData uri="http://schemas.openxmlformats.org/drawingml/2006/table">
            <a:tbl>
              <a:tblPr/>
              <a:tblGrid>
                <a:gridCol w="1668600"/>
                <a:gridCol w="2411280"/>
                <a:gridCol w="1370160"/>
                <a:gridCol w="1017720"/>
              </a:tblGrid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Rectangle 2"/>
          <p:cNvSpPr/>
          <p:nvPr/>
        </p:nvSpPr>
        <p:spPr>
          <a:xfrm>
            <a:off x="3147480" y="821880"/>
            <a:ext cx="284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онн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Таблица 1" descr=""/>
          <p:cNvPicPr/>
          <p:nvPr/>
        </p:nvPicPr>
        <p:blipFill>
          <a:blip r:embed="rId1"/>
          <a:stretch/>
        </p:blipFill>
        <p:spPr>
          <a:xfrm>
            <a:off x="1225440" y="920880"/>
            <a:ext cx="6650280" cy="41446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"/>
          <p:cNvSpPr/>
          <p:nvPr/>
        </p:nvSpPr>
        <p:spPr>
          <a:xfrm>
            <a:off x="2354040" y="440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Краткосрочные ориентационные кур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Таблица 1" descr=""/>
          <p:cNvPicPr/>
          <p:nvPr/>
        </p:nvPicPr>
        <p:blipFill>
          <a:blip r:embed="rId1"/>
          <a:stretch/>
        </p:blipFill>
        <p:spPr>
          <a:xfrm>
            <a:off x="768240" y="689040"/>
            <a:ext cx="7229520" cy="46576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"/>
          <p:cNvSpPr/>
          <p:nvPr/>
        </p:nvSpPr>
        <p:spPr>
          <a:xfrm>
            <a:off x="3387960" y="288360"/>
            <a:ext cx="23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Предметные к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066680" y="1143000"/>
          <a:ext cx="6782040" cy="3736800"/>
        </p:xfrm>
        <a:graphic>
          <a:graphicData uri="http://schemas.openxmlformats.org/drawingml/2006/table">
            <a:tbl>
              <a:tblPr/>
              <a:tblGrid>
                <a:gridCol w="479520"/>
                <a:gridCol w="1287360"/>
                <a:gridCol w="2257560"/>
                <a:gridCol w="1611360"/>
                <a:gridCol w="1146240"/>
              </a:tblGrid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Rectangle 1"/>
          <p:cNvSpPr/>
          <p:nvPr/>
        </p:nvSpPr>
        <p:spPr>
          <a:xfrm>
            <a:off x="0" y="55152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Благодарности и поощ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РТФОЛИО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АПКА ДОСТИЖЕНИЙ УЧАЩЕГОС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Картинка 16 из 625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971800" cy="2378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ртфоли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комплект документов, представляющий совокупность сертифицированных или несертифицированных индивидуальных достижений, который является основой для определения образовательного рейтинга выпускника основной школ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имущества портфолио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грация количественной и качественной оценок деятельности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мещение акцента с того, что учащийся не знает и не умеет на то, что он знает и умее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оритет самооценки перед оценко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ртфолио может помоч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точно оценить свои успех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четко спланировать дальнейшее обучение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грамотно показать свои достиж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Рисунок 4" descr="WIZARD.WMF"/>
          <p:cNvPicPr/>
          <p:nvPr/>
        </p:nvPicPr>
        <p:blipFill>
          <a:blip r:embed="rId1"/>
          <a:stretch/>
        </p:blipFill>
        <p:spPr>
          <a:xfrm>
            <a:off x="4800600" y="3733920"/>
            <a:ext cx="4191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нение портфоли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выборе профиля обучения в старших классах общеобразовательной школы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поступлении в вуз как дополни­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льный материал при собеседован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устройстве на работу как свидетельство практического опыта, социальных практи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 шаг. Самонаблюден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своих профессиональных интересов и склонност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нение портфоли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переходе в новую школу, учебную группу, к новому преподавателю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ить себя новым людям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мочь им быстрее понять тебя с помощью материалов, собранных в портфоли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собеседовании и презентации, например при поступлении в вуз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уктурировать свое выступление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авильно изложить свою мысль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твердить сказанное примерами и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енных материалов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Рисунок 3" descr="42.gif"/>
          <p:cNvPicPr/>
          <p:nvPr/>
        </p:nvPicPr>
        <p:blipFill>
          <a:blip r:embed="rId1"/>
          <a:stretch/>
        </p:blipFill>
        <p:spPr>
          <a:xfrm>
            <a:off x="7238880" y="44197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ОЛЬ РОДИТЕЛЕЙ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в предпрофильной подготовке уча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8" descr="STUDENT.WMF"/>
          <p:cNvPicPr/>
          <p:nvPr/>
        </p:nvPicPr>
        <p:blipFill>
          <a:blip r:embed="rId1"/>
          <a:stretch/>
        </p:blipFill>
        <p:spPr>
          <a:xfrm>
            <a:off x="6095880" y="2819520"/>
            <a:ext cx="2944800" cy="373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990720" y="380520"/>
            <a:ext cx="79437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накомство с миром професси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ощь в оценке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ощь в заполнени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держка подростка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его выбор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6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2 шаг. Сбор и оценка информации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профессии и содержании труд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возможностях трудоустройст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перспектив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 обучен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предприятия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3 шаг. Принятие решения  и планирование достижения цели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цел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средст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ение вариантов (основной и запасной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возможностей каждого вариант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суждение решения с авторитетным человеко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нятие реш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FIREMAN.WMF"/>
          <p:cNvPicPr/>
          <p:nvPr/>
        </p:nvPicPr>
        <p:blipFill>
          <a:blip r:embed="rId1"/>
          <a:stretch/>
        </p:blipFill>
        <p:spPr>
          <a:xfrm>
            <a:off x="6477120" y="4114800"/>
            <a:ext cx="2484360" cy="25448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дпрофильная подготовк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294920"/>
            <a:ext cx="7251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система деятельности, содействующая самоопределению учащихся основной школы относительно избираемых ими профилирующих направлений будущего обучения и широкой сферы последующей профессиональной деятельност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формирование готовности выпускников основной школы ответственно осуществлять выбор дальнейшей образовательной траектории, соответствующей их способностям и интересам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здание условий для формирования адекватной самооценки учащихся через овладение технологией «Портфолио»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сширение возможностей социализации учащихся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правления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cxnSp>
        <p:nvCxnSpPr>
          <p:cNvPr id="335" name="Прямая со стрелкой 7"/>
          <p:cNvCxnSpPr/>
          <p:nvPr/>
        </p:nvCxnSpPr>
        <p:spPr>
          <a:xfrm>
            <a:off x="5562720" y="1218960"/>
            <a:ext cx="762480" cy="88164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6" name="Прямая со стрелкой 9"/>
          <p:cNvCxnSpPr/>
          <p:nvPr/>
        </p:nvCxnSpPr>
        <p:spPr>
          <a:xfrm flipH="1">
            <a:off x="2513880" y="1294920"/>
            <a:ext cx="762840" cy="83916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1"/>
          <p:cNvCxnSpPr/>
          <p:nvPr/>
        </p:nvCxnSpPr>
        <p:spPr>
          <a:xfrm flipH="1">
            <a:off x="4419360" y="1295280"/>
            <a:ext cx="2160" cy="915120"/>
          </a:xfrm>
          <a:prstGeom prst="straightConnector1">
            <a:avLst/>
          </a:prstGeom>
          <a:ln w="5724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2"/>
          <p:cNvSpPr/>
          <p:nvPr/>
        </p:nvSpPr>
        <p:spPr>
          <a:xfrm>
            <a:off x="685800" y="2438280"/>
            <a:ext cx="2514600" cy="1067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ИНФОРМАЦИОН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3"/>
          <p:cNvSpPr/>
          <p:nvPr/>
        </p:nvSpPr>
        <p:spPr>
          <a:xfrm>
            <a:off x="3352680" y="2438280"/>
            <a:ext cx="2210040" cy="1067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ФИЛЬНАЯ ОРИ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5"/>
          <p:cNvSpPr/>
          <p:nvPr/>
        </p:nvSpPr>
        <p:spPr>
          <a:xfrm>
            <a:off x="5715000" y="2438280"/>
            <a:ext cx="2514600" cy="1067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УРСЫ ПО ВЫ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7"/>
          <p:cNvSpPr/>
          <p:nvPr/>
        </p:nvSpPr>
        <p:spPr>
          <a:xfrm>
            <a:off x="685800" y="3733920"/>
            <a:ext cx="2438280" cy="2133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лассные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неклассны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абота с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абота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9"/>
          <p:cNvSpPr/>
          <p:nvPr/>
        </p:nvSpPr>
        <p:spPr>
          <a:xfrm>
            <a:off x="3276720" y="3733920"/>
            <a:ext cx="2286000" cy="2133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лассные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урс «Я и моя профессия»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0"/>
          <p:cNvSpPr/>
          <p:nvPr/>
        </p:nvSpPr>
        <p:spPr>
          <a:xfrm>
            <a:off x="5715000" y="3733920"/>
            <a:ext cx="2514600" cy="2133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риент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ЕДПРОФИЛЬНАЯ ПОДГОТОВКА В 8 КЛАСС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не менее 25 часов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09-12-23T12:32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