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E61-D5A9-402D-A960-F3E2D7FB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4B6-CA91-4EC0-AC06-A5F05F1D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529-422F-454D-B4A6-76ED7222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882-09A6-4641-80B7-15E4D705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B97-26DF-44DF-A7F3-A1FD92EA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BD7C-DE06-4599-9EF1-B2602C06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D037-89C3-4EE7-B94B-8E66D3E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54B6-462A-408E-87EF-A74101D9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090A-E94C-42CE-9251-E08EB88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F26-5567-4913-8CD7-B888EF1A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BDD-A1D1-48C5-9CCE-5E784E5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227-7D6D-41C1-A76E-C8D00D3C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A9F-3E78-486B-9D82-CBEC83C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DC99-9BCE-4BDF-88B6-3B49CB5F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9D35-E664-4803-8C60-58776599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CD82-D2DD-45A2-9527-7F9893BE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F7D1-B0C5-4583-8976-4EA08BF1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BA2E-8C82-4699-9A8A-8E76860D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1210-9864-4ADE-A616-9169397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07E1-D152-499F-814B-A8D578EF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11BA-5453-44BF-95C1-DDBB4CE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89D7-A6CF-4395-BAAA-865ACD0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F58-1635-4A84-B6F4-0F54BE6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3B69-0E0E-4907-99BE-F86DBEB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6010-263A-47A5-8345-ED76DBB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DE97-E540-4C81-9CDB-5458520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08E8-2E0C-4904-85E2-5CD4271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86F2-3ABD-4292-B5CA-94698F39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06FC-4CA4-4A4F-B0D6-EE912499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A4E9-C223-4912-B79A-910ED285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5C0A-996F-4068-BF7C-31665D85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7800-49BE-4347-84D8-EA0277D5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2F08-902B-4A79-B34F-4BADEE99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268-552F-423E-BCBF-4C9B263F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1ADF-EC44-4201-83D4-55E3641A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6309-6894-4607-873B-8C6FCFD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227F-7300-4A55-95C4-A81CAA56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162E-92E1-4E1D-A627-D02ED7E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8957-895C-48A9-85B4-1F803FB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F852-286F-4E58-9F8B-BD116B9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3073-0B99-44DD-A506-A33A2561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085A-02A7-4DC6-A83F-0F9D50B3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40ED-CE7D-48EE-97F4-2C4F3E73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469C-E326-4352-8417-5498A114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871-20D6-40BB-A783-86DC059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06A4-74AB-4C9F-A327-3577994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18763-0D53-4C1B-A5FE-3EE0CA3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D76CC-E933-49C1-8FBB-68389A21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037B-1237-4EDE-92CC-F980CDAA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3AFCD-62AD-478D-B2D4-7BFEDDC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885C-7703-4A81-8D43-C3BC5B0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F202-8591-4311-B8B6-CB39170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FBE0-4922-4AB9-823A-C08B68C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B487C-FA46-4CEA-82A9-06A23BD4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1C5F-BDB5-4478-8E22-C049F4E5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9F7-92F3-47CF-BC11-BA1B2DAF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8A4B1-6FC1-4162-81B8-C92CCA77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4CDF7-8D3A-4236-9D43-2FA2A0D7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B3008-FB49-4192-820F-1FAA44B6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60F0-C0C6-4030-8E39-D76E3303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BF27-C6CC-4F6E-95C7-6815D71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512A-9D83-418C-B01C-7836042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D671-4BD2-4D8A-A721-30E674C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F7B5-048E-40CE-9A17-9CD853A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A69E-2986-40EF-A5D6-E60090D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07EE-BD39-4427-A289-460EA8F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4CF-2E26-4974-8BFC-5DDAD8A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FDAD-BB32-4783-9BFF-29EEB8D5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B5E3-A5F8-4B82-BF10-185B6F0B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D52BE-636B-45E2-9DD8-7DFF520D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3734-61BB-4001-AA64-7C5FFFB7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1CA8-B15F-4D6A-B374-CF4565B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25A17-CBC7-46C3-A8F6-13F121C3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2CCC4-914E-4318-AF55-F3F09329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CC194-D753-4046-8387-9773CDF7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51593-49E6-43A0-B21C-24381091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FC876-3571-49C5-BBF3-3D3B397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BEA-187C-4E5A-9806-2AC2BE6C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9F68F-1B47-46A7-AA69-70D3C8CF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18DA8-AC31-45F9-93C2-9A3E16D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67BD-E9AD-4AF8-8330-021163D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A897-A2A4-4E42-86C9-7F8F21E9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085B-0324-49F3-B67E-1C10E02E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2EB-DFEF-4D31-A2DE-D6FE965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F0C2-6338-43E4-9A90-EE685A84B1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3E7B-A440-43B1-AE2D-DF47D82A91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4E47-2785-4A2C-B83F-0F983C6D9A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02E-9D8D-407A-8767-F4A7D9C6B4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AB4A-A97D-4F8C-AE1A-8ADA1FF6EBA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D680-3DE0-42D7-BC86-F856D99737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B666-BDB7-4796-8957-BFEC7CFC4D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07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ланирование воспитательной работ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4038120"/>
            <a:ext cx="740700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2009-2010 учебный год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чальная школ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837720"/>
            <a:ext cx="7499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кл. – Я и моя школа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адаптация первоклассников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кл. – Какой я? Какой ты?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коммуникативные навыки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кл. – Мои интересы и возможности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познавательная сфера, интересы, мотива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кл. – Я расту, я изменяюс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«первые шаги» в самопознании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реднее звен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кл. – Познай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позна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кл. – Сделай себя сам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воспита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кл. – Научи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учиться(самообуче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кл. – Утверждай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утвержде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кл. – Найди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актуализа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аршая школ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 кл. – Управляй собой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регуля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1 кл. Реализуй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актуализа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Планируемый результа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2209320"/>
            <a:ext cx="749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дель учащихся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дель классного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дель взаимодействия с родителя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Комплекс дел по достижению цели и задач (планирование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с учащими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ные час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кретные дел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Комплекс дел по достижению цели и задач (планирование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с родителя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ьский комите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матика родительских собраний (не менее 4 собраний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токолы родительских собрани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сть родител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Комплекс дел по достижению цели и задач (планирование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2209320"/>
            <a:ext cx="749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с учителями- предметника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. Диагнос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менения в развитии качеств личности учащихся,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йтинг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сть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сть родител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ы: наблюдение, беседа, опрос, анкетирование, тестиров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133720"/>
            <a:ext cx="68580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ОСПИТАТЕЛЬНОЙ РАБОТЫ ШКОЛЫ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ражданско-правово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65 лет Побед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теллектуально-познавательно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проектная и исследовательская деятельность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портивно-оздоровительно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ЦЕЛЕПОЛАГАНИЕ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 «Наша новая школа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2590920"/>
            <a:ext cx="7499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инициативной личности, способной творчески мыслить и находить нестандартные  решения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 ВР школы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среды для развития индивидуальных способностей, культурно-образовательных потребностей, жизненных планов и социально-профессиональных ориентаций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условия для развития интеллектуальных, познавательных и творческих способностей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ствовать развитию самостоятельности, инициативы, самотворчества в школе, повышению роли ученического самоуправления в планировании, организации и анализе жизнедеятельности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47560" y="144792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условия для сохранения и укрепления физического и психического здоровья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овать эффективное взаимодействие семьи и школы через систему информирования и обучения родителей, привлечения их к активному участию в жизнедеятельности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7960" y="2057400"/>
            <a:ext cx="6400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ТРЕБОВАНИЯ К ПЛАНАМ ВОСПИТАТЕЛЬНОЙ РАБОТЫ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. Анализ работы за предыдущий го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2361960"/>
            <a:ext cx="749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арактеристика класса/ социальный паспорт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ализ ВР с классо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стижения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блемы и их причин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спектив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Цели и задачи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ответствуют целям и задачам ВР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ходят из особенностей классного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ально достижим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ответствуют направлениям развития личности по классам (1-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10-02-16T07:41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